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C4DF-1DF3-46DF-8D1E-73CC06294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Kusick ‘99 soft updates implementation: 12 str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stMark: 450 MB of patches (4.6 M patches for 580 k block write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5%, 99.9%, 5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1D6A-D525-48E8-9D20-DD5EA21FD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" y="14400"/>
            <a:ext cx="8991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240" y="6854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40" y="371052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5106-53A1-448A-930E-907F9644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14400"/>
            <a:ext cx="8991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240" y="6854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6120" y="6854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9240" y="371052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6120" y="371052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4922-5E69-4E4A-B4E2-A5A57A761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320" y="14400"/>
            <a:ext cx="8991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240" y="6854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05360" y="6854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71120" y="6854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9240" y="371052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05360" y="371052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71120" y="371052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76CF-65BA-4C73-86BF-EF0E54AF5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14400"/>
            <a:ext cx="8991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9240" y="68544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B1C3-2C29-478A-95F2-B0BC943F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14400"/>
            <a:ext cx="8991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240" y="68544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F473-7BAC-4043-9CBA-A9AE4065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14400"/>
            <a:ext cx="8991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240" y="68544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6120" y="68544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0528-6DD4-499B-9172-1BF80E5C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320" y="14400"/>
            <a:ext cx="8991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D36D-2D5A-4601-AA6C-9029688A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76320" y="38160"/>
            <a:ext cx="89913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85F0-5696-41C3-AFD3-37AE6292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14400"/>
            <a:ext cx="8991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240" y="6854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6120" y="68544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240" y="371052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6ECF-3795-419E-8D4C-A18DD7E2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14400"/>
            <a:ext cx="8991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240" y="68544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6120" y="6854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6120" y="371052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6AC1-57E3-4936-9556-98237DBB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14400"/>
            <a:ext cx="8991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240" y="6854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6120" y="6854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240" y="371052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FEBC-5843-4B3A-A46C-7CA2633E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0" y="6657840"/>
            <a:ext cx="8610480" cy="0"/>
          </a:xfrm>
          <a:prstGeom prst="line">
            <a:avLst/>
          </a:prstGeom>
          <a:ln w="381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8610480" y="6490440"/>
            <a:ext cx="373680" cy="354240"/>
            <a:chOff x="8610480" y="6490440"/>
            <a:chExt cx="373680" cy="354240"/>
          </a:xfrm>
        </p:grpSpPr>
        <p:sp>
          <p:nvSpPr>
            <p:cNvPr id="2" name=""/>
            <p:cNvSpPr/>
            <p:nvPr/>
          </p:nvSpPr>
          <p:spPr>
            <a:xfrm rot="21381600">
              <a:off x="8619480" y="6620040"/>
              <a:ext cx="354960" cy="9324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21411600">
              <a:off x="8622360" y="6591960"/>
              <a:ext cx="354960" cy="24300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21381600">
              <a:off x="8621640" y="6623280"/>
              <a:ext cx="351360" cy="9324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21411600">
              <a:off x="8616600" y="6499800"/>
              <a:ext cx="354600" cy="243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38160"/>
            <a:ext cx="8991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9240" y="68544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-57600" y="65908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6006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566200" y="6461280"/>
            <a:ext cx="441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95C7-451A-4430-B9F1-4BC178196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8991360" y="6657840"/>
            <a:ext cx="152280" cy="0"/>
          </a:xfrm>
          <a:prstGeom prst="line">
            <a:avLst/>
          </a:prstGeom>
          <a:ln w="381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utenberg.org/etext/20386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gutenberg.org/etext/20386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914400"/>
            <a:ext cx="9144000" cy="160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featherstitch">
            <a:hlinkClick r:id="rId1"/>
          </p:cNvPr>
          <p:cNvPicPr/>
          <p:nvPr/>
        </p:nvPicPr>
        <p:blipFill>
          <a:blip r:embed="rId2">
            <a:lum bright="78000"/>
          </a:blip>
          <a:stretch/>
        </p:blipFill>
        <p:spPr>
          <a:xfrm>
            <a:off x="5857920" y="3390840"/>
            <a:ext cx="3286080" cy="34671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Generalized File System Dependenci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0" y="3200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ristopher Frost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Mike Mammarella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Eddie Kohler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drew de los Reyes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†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Shant Hovsepian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drew Matsuoka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‡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Lei Zhang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CLA   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†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oogle   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‡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T Aust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0680" y="5486400"/>
            <a:ext cx="56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eatherstitch.cs.ucla.ed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8610480" y="6490440"/>
            <a:ext cx="373680" cy="354240"/>
            <a:chOff x="8610480" y="6490440"/>
            <a:chExt cx="373680" cy="354240"/>
          </a:xfrm>
        </p:grpSpPr>
        <p:sp>
          <p:nvSpPr>
            <p:cNvPr id="63" name=""/>
            <p:cNvSpPr/>
            <p:nvPr/>
          </p:nvSpPr>
          <p:spPr>
            <a:xfrm rot="21381600">
              <a:off x="8619480" y="6620040"/>
              <a:ext cx="354960" cy="9324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21411600">
              <a:off x="8622360" y="6591960"/>
              <a:ext cx="354960" cy="24300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1381600">
              <a:off x="8621640" y="6623280"/>
              <a:ext cx="351360" cy="9324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411600">
              <a:off x="8616600" y="6499800"/>
              <a:ext cx="354600" cy="243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 flipH="1">
            <a:off x="8991360" y="6657840"/>
            <a:ext cx="152280" cy="0"/>
          </a:xfrm>
          <a:prstGeom prst="line">
            <a:avLst/>
          </a:prstGeom>
          <a:ln w="381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566200" y="6461280"/>
            <a:ext cx="441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564D-746B-44A7-AF62-0D08048FD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2160" y="6521400"/>
            <a:ext cx="407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ed by the NSF, Microsoft, and Int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83DA-E659-4574-85C4-3686EA409C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38160"/>
            <a:ext cx="8991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ch Example: Asynchronous rename(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2368440"/>
            <a:ext cx="2666880" cy="908280"/>
          </a:xfrm>
          <a:prstGeom prst="rect">
            <a:avLst/>
          </a:prstGeom>
          <a:solidFill>
            <a:srgbClr val="f0fa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331800" y="2113560"/>
            <a:ext cx="1183320" cy="1119240"/>
            <a:chOff x="3331800" y="2113560"/>
            <a:chExt cx="1183320" cy="1119240"/>
          </a:xfrm>
        </p:grpSpPr>
        <p:sp>
          <p:nvSpPr>
            <p:cNvPr id="134" name=""/>
            <p:cNvSpPr/>
            <p:nvPr/>
          </p:nvSpPr>
          <p:spPr>
            <a:xfrm rot="21381600">
              <a:off x="3361320" y="2522880"/>
              <a:ext cx="1123560" cy="29520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21411600">
              <a:off x="3371040" y="2433960"/>
              <a:ext cx="1123560" cy="76824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21381600">
              <a:off x="3367440" y="2532600"/>
              <a:ext cx="1112400" cy="29520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21411600">
              <a:off x="3351960" y="2143440"/>
              <a:ext cx="1123200" cy="76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095880" y="2368440"/>
            <a:ext cx="2667240" cy="908280"/>
          </a:xfrm>
          <a:prstGeom prst="rect">
            <a:avLst/>
          </a:prstGeom>
          <a:solidFill>
            <a:srgbClr val="f0fa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151320" y="2113560"/>
            <a:ext cx="1183320" cy="1119240"/>
            <a:chOff x="6151320" y="2113560"/>
            <a:chExt cx="1183320" cy="1119240"/>
          </a:xfrm>
        </p:grpSpPr>
        <p:sp>
          <p:nvSpPr>
            <p:cNvPr id="140" name=""/>
            <p:cNvSpPr/>
            <p:nvPr/>
          </p:nvSpPr>
          <p:spPr>
            <a:xfrm rot="21381600">
              <a:off x="6180840" y="2522880"/>
              <a:ext cx="1123560" cy="29520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1411600">
              <a:off x="6190560" y="2433960"/>
              <a:ext cx="1123560" cy="76824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21381600">
              <a:off x="6186960" y="2532600"/>
              <a:ext cx="1112400" cy="29520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21411600">
              <a:off x="6171480" y="2143440"/>
              <a:ext cx="1123200" cy="76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5006880" y="297180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 d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721640" y="297180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 d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76960" y="2286000"/>
            <a:ext cx="68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02880" y="228600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13920" y="579132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l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1800" y="4913280"/>
            <a:ext cx="1217520" cy="414360"/>
          </a:xfrm>
          <a:prstGeom prst="rect">
            <a:avLst/>
          </a:prstGeom>
          <a:solidFill>
            <a:srgbClr val="f0fa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257640" y="4831200"/>
            <a:ext cx="487440" cy="462240"/>
            <a:chOff x="3257640" y="4831200"/>
            <a:chExt cx="487440" cy="462240"/>
          </a:xfrm>
        </p:grpSpPr>
        <p:sp>
          <p:nvSpPr>
            <p:cNvPr id="151" name=""/>
            <p:cNvSpPr/>
            <p:nvPr/>
          </p:nvSpPr>
          <p:spPr>
            <a:xfrm rot="21381600">
              <a:off x="3269520" y="5000400"/>
              <a:ext cx="463320" cy="12204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1411600">
              <a:off x="3273480" y="4963320"/>
              <a:ext cx="463320" cy="31716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1381600">
              <a:off x="3272040" y="5004360"/>
              <a:ext cx="458640" cy="12204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1411600">
              <a:off x="3265920" y="4843800"/>
              <a:ext cx="462960" cy="317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755720" y="4913280"/>
            <a:ext cx="1219320" cy="414360"/>
          </a:xfrm>
          <a:prstGeom prst="rect">
            <a:avLst/>
          </a:prstGeom>
          <a:solidFill>
            <a:srgbClr val="f0fa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771560" y="4831200"/>
            <a:ext cx="487440" cy="462240"/>
            <a:chOff x="1771560" y="4831200"/>
            <a:chExt cx="487440" cy="462240"/>
          </a:xfrm>
        </p:grpSpPr>
        <p:sp>
          <p:nvSpPr>
            <p:cNvPr id="157" name=""/>
            <p:cNvSpPr/>
            <p:nvPr/>
          </p:nvSpPr>
          <p:spPr>
            <a:xfrm rot="21381600">
              <a:off x="1783440" y="5000400"/>
              <a:ext cx="463320" cy="12204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21411600">
              <a:off x="1787400" y="4963320"/>
              <a:ext cx="463320" cy="31716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21381600">
              <a:off x="1785960" y="5004360"/>
              <a:ext cx="458640" cy="12204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21411600">
              <a:off x="1779840" y="4843800"/>
              <a:ext cx="462960" cy="317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3793680" y="502920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14720" y="50292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3240" y="48006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55000" y="480060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96560" y="50292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2280" y="3733920"/>
            <a:ext cx="8839440" cy="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03440" y="441972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alid block writeo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1144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36920" y="54244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rot="20502600">
            <a:off x="2769480" y="3610080"/>
            <a:ext cx="762120" cy="1676160"/>
          </a:xfrm>
          <a:prstGeom prst="lightningBol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A6C4-6820-4591-B758-AFBF6CFCA3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320" y="38160"/>
            <a:ext cx="8991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ch Example: rename(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h Soft Upda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2368440"/>
            <a:ext cx="2666880" cy="908280"/>
          </a:xfrm>
          <a:prstGeom prst="rect">
            <a:avLst/>
          </a:prstGeom>
          <a:solidFill>
            <a:srgbClr val="f0fa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33160" y="2113560"/>
            <a:ext cx="1183320" cy="1119240"/>
            <a:chOff x="533160" y="2113560"/>
            <a:chExt cx="1183320" cy="1119240"/>
          </a:xfrm>
        </p:grpSpPr>
        <p:sp>
          <p:nvSpPr>
            <p:cNvPr id="174" name=""/>
            <p:cNvSpPr/>
            <p:nvPr/>
          </p:nvSpPr>
          <p:spPr>
            <a:xfrm rot="21381600">
              <a:off x="562680" y="2522880"/>
              <a:ext cx="1123560" cy="29520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21411600">
              <a:off x="572400" y="2433960"/>
              <a:ext cx="1123560" cy="76824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21381600">
              <a:off x="568800" y="2532600"/>
              <a:ext cx="1112400" cy="29520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21411600">
              <a:off x="553320" y="2143440"/>
              <a:ext cx="1123200" cy="76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276720" y="2368440"/>
            <a:ext cx="2666880" cy="908280"/>
          </a:xfrm>
          <a:prstGeom prst="rect">
            <a:avLst/>
          </a:prstGeom>
          <a:solidFill>
            <a:srgbClr val="f0fa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331800" y="2113560"/>
            <a:ext cx="1183320" cy="1119240"/>
            <a:chOff x="3331800" y="2113560"/>
            <a:chExt cx="1183320" cy="1119240"/>
          </a:xfrm>
        </p:grpSpPr>
        <p:sp>
          <p:nvSpPr>
            <p:cNvPr id="180" name=""/>
            <p:cNvSpPr/>
            <p:nvPr/>
          </p:nvSpPr>
          <p:spPr>
            <a:xfrm rot="21381600">
              <a:off x="3361320" y="2522880"/>
              <a:ext cx="1123560" cy="29520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21411600">
              <a:off x="3371040" y="2433960"/>
              <a:ext cx="1123560" cy="76824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21381600">
              <a:off x="3367440" y="2532600"/>
              <a:ext cx="1112400" cy="29520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21411600">
              <a:off x="3351960" y="2143440"/>
              <a:ext cx="1123200" cy="76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6095880" y="2368440"/>
            <a:ext cx="2667240" cy="908280"/>
          </a:xfrm>
          <a:prstGeom prst="rect">
            <a:avLst/>
          </a:prstGeom>
          <a:solidFill>
            <a:srgbClr val="f0fa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151320" y="2113560"/>
            <a:ext cx="1183320" cy="1119240"/>
            <a:chOff x="6151320" y="2113560"/>
            <a:chExt cx="1183320" cy="1119240"/>
          </a:xfrm>
        </p:grpSpPr>
        <p:sp>
          <p:nvSpPr>
            <p:cNvPr id="186" name=""/>
            <p:cNvSpPr/>
            <p:nvPr/>
          </p:nvSpPr>
          <p:spPr>
            <a:xfrm rot="21381600">
              <a:off x="6180840" y="2522880"/>
              <a:ext cx="1123560" cy="29520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21411600">
              <a:off x="6190560" y="2433960"/>
              <a:ext cx="1123560" cy="76824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1381600">
              <a:off x="6186960" y="2532600"/>
              <a:ext cx="1112400" cy="29520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21411600">
              <a:off x="6171480" y="2143440"/>
              <a:ext cx="1123200" cy="76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2012400" y="29718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ode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06880" y="297180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 d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21640" y="297180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 d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676520" y="266688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490640" y="26668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62120" y="1968480"/>
            <a:ext cx="4648320" cy="317520"/>
          </a:xfrm>
          <a:custGeom>
            <a:avLst/>
            <a:gdLst/>
            <a:ahLst/>
            <a:rect l="l" t="t" r="r" b="b"/>
            <a:pathLst>
              <a:path w="2928" h="200">
                <a:moveTo>
                  <a:pt x="0" y="152"/>
                </a:moveTo>
                <a:cubicBezTo>
                  <a:pt x="476" y="76"/>
                  <a:pt x="952" y="0"/>
                  <a:pt x="1440" y="8"/>
                </a:cubicBezTo>
                <a:cubicBezTo>
                  <a:pt x="1928" y="16"/>
                  <a:pt x="2428" y="108"/>
                  <a:pt x="2928" y="2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76960" y="2286000"/>
            <a:ext cx="68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02880" y="228600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49440" y="284328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 #re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03440" y="441972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alid block writeo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1144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36920" y="54244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3809880"/>
            <a:ext cx="8839440" cy="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49440" y="236232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 #re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509400" y="1776960"/>
            <a:ext cx="1183320" cy="1119240"/>
            <a:chOff x="509400" y="1776960"/>
            <a:chExt cx="1183320" cy="1119240"/>
          </a:xfrm>
        </p:grpSpPr>
        <p:sp>
          <p:nvSpPr>
            <p:cNvPr id="205" name=""/>
            <p:cNvSpPr/>
            <p:nvPr/>
          </p:nvSpPr>
          <p:spPr>
            <a:xfrm rot="21381600">
              <a:off x="538920" y="2186280"/>
              <a:ext cx="1123560" cy="29520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21411600">
              <a:off x="548640" y="2097360"/>
              <a:ext cx="1123560" cy="76824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21381600">
              <a:off x="545040" y="2196000"/>
              <a:ext cx="1112400" cy="29520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21411600">
              <a:off x="529560" y="1806840"/>
              <a:ext cx="1123200" cy="76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581760" y="19810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 #re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A6DB-C508-4628-8790-A8A22FEBCB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320" y="38160"/>
            <a:ext cx="8991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ch Example: rename(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h Soft Upda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4654440"/>
            <a:ext cx="2666880" cy="908280"/>
          </a:xfrm>
          <a:prstGeom prst="rect">
            <a:avLst/>
          </a:prstGeom>
          <a:solidFill>
            <a:srgbClr val="f0fa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5232240"/>
            <a:ext cx="2666880" cy="908280"/>
          </a:xfrm>
          <a:prstGeom prst="rect">
            <a:avLst/>
          </a:prstGeom>
          <a:solidFill>
            <a:srgbClr val="f0fa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95880" y="4654440"/>
            <a:ext cx="2667240" cy="908280"/>
          </a:xfrm>
          <a:prstGeom prst="rect">
            <a:avLst/>
          </a:prstGeom>
          <a:solidFill>
            <a:srgbClr val="f0fa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12400" y="52578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ode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06880" y="583560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 d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721640" y="525780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 d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2971800" y="5181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866920" y="5181480"/>
            <a:ext cx="3049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48120" y="4572000"/>
            <a:ext cx="3276360" cy="469800"/>
          </a:xfrm>
          <a:custGeom>
            <a:avLst/>
            <a:gdLst/>
            <a:ahLst/>
            <a:rect l="l" t="t" r="r" b="b"/>
            <a:pathLst>
              <a:path w="2928" h="200">
                <a:moveTo>
                  <a:pt x="0" y="152"/>
                </a:moveTo>
                <a:cubicBezTo>
                  <a:pt x="476" y="76"/>
                  <a:pt x="952" y="0"/>
                  <a:pt x="1440" y="8"/>
                </a:cubicBezTo>
                <a:cubicBezTo>
                  <a:pt x="1928" y="16"/>
                  <a:pt x="2428" y="108"/>
                  <a:pt x="2928" y="2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2280" y="3809880"/>
            <a:ext cx="8839440" cy="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2368440"/>
            <a:ext cx="2666880" cy="908280"/>
          </a:xfrm>
          <a:prstGeom prst="rect">
            <a:avLst/>
          </a:prstGeom>
          <a:solidFill>
            <a:srgbClr val="f0fa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33160" y="2113560"/>
            <a:ext cx="1183320" cy="1119240"/>
            <a:chOff x="533160" y="2113560"/>
            <a:chExt cx="1183320" cy="1119240"/>
          </a:xfrm>
        </p:grpSpPr>
        <p:sp>
          <p:nvSpPr>
            <p:cNvPr id="223" name=""/>
            <p:cNvSpPr/>
            <p:nvPr/>
          </p:nvSpPr>
          <p:spPr>
            <a:xfrm rot="21381600">
              <a:off x="562680" y="2522880"/>
              <a:ext cx="1123560" cy="29520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21411600">
              <a:off x="572400" y="2433960"/>
              <a:ext cx="1123560" cy="76824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21381600">
              <a:off x="568800" y="2532600"/>
              <a:ext cx="1112400" cy="29520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21411600">
              <a:off x="553320" y="2143440"/>
              <a:ext cx="1123200" cy="76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276720" y="2368440"/>
            <a:ext cx="2666880" cy="908280"/>
          </a:xfrm>
          <a:prstGeom prst="rect">
            <a:avLst/>
          </a:prstGeom>
          <a:solidFill>
            <a:srgbClr val="f0fa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331800" y="2113560"/>
            <a:ext cx="1183320" cy="1119240"/>
            <a:chOff x="3331800" y="2113560"/>
            <a:chExt cx="1183320" cy="1119240"/>
          </a:xfrm>
        </p:grpSpPr>
        <p:sp>
          <p:nvSpPr>
            <p:cNvPr id="229" name=""/>
            <p:cNvSpPr/>
            <p:nvPr/>
          </p:nvSpPr>
          <p:spPr>
            <a:xfrm rot="21381600">
              <a:off x="3361320" y="2522880"/>
              <a:ext cx="1123560" cy="29520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21411600">
              <a:off x="3371040" y="2433960"/>
              <a:ext cx="1123560" cy="76824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21381600">
              <a:off x="3367440" y="2532600"/>
              <a:ext cx="1112400" cy="29520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21411600">
              <a:off x="3351960" y="2143440"/>
              <a:ext cx="1123200" cy="76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6095880" y="2368440"/>
            <a:ext cx="2667240" cy="908280"/>
          </a:xfrm>
          <a:prstGeom prst="rect">
            <a:avLst/>
          </a:prstGeom>
          <a:solidFill>
            <a:srgbClr val="f0fa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6151320" y="2113560"/>
            <a:ext cx="1183320" cy="1119240"/>
            <a:chOff x="6151320" y="2113560"/>
            <a:chExt cx="1183320" cy="1119240"/>
          </a:xfrm>
        </p:grpSpPr>
        <p:sp>
          <p:nvSpPr>
            <p:cNvPr id="235" name=""/>
            <p:cNvSpPr/>
            <p:nvPr/>
          </p:nvSpPr>
          <p:spPr>
            <a:xfrm rot="21381600">
              <a:off x="6180840" y="2522880"/>
              <a:ext cx="1123560" cy="29520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21411600">
              <a:off x="6190560" y="2433960"/>
              <a:ext cx="1123560" cy="76824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1381600">
              <a:off x="6186960" y="2532600"/>
              <a:ext cx="1112400" cy="29520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21411600">
              <a:off x="6171480" y="2143440"/>
              <a:ext cx="1123200" cy="76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2012400" y="29718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ode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06880" y="297180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 d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721640" y="297180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 d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1676520" y="266688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4490640" y="26668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62120" y="1968480"/>
            <a:ext cx="4648320" cy="317520"/>
          </a:xfrm>
          <a:custGeom>
            <a:avLst/>
            <a:gdLst/>
            <a:ahLst/>
            <a:rect l="l" t="t" r="r" b="b"/>
            <a:pathLst>
              <a:path w="2928" h="200">
                <a:moveTo>
                  <a:pt x="0" y="152"/>
                </a:moveTo>
                <a:cubicBezTo>
                  <a:pt x="476" y="76"/>
                  <a:pt x="952" y="0"/>
                  <a:pt x="1440" y="8"/>
                </a:cubicBezTo>
                <a:cubicBezTo>
                  <a:pt x="1928" y="16"/>
                  <a:pt x="2428" y="108"/>
                  <a:pt x="2928" y="2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576960" y="2286000"/>
            <a:ext cx="68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02880" y="228600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9440" y="284328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 #re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9440" y="236232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 #re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509400" y="1776960"/>
            <a:ext cx="1183320" cy="1119240"/>
            <a:chOff x="509400" y="1776960"/>
            <a:chExt cx="1183320" cy="1119240"/>
          </a:xfrm>
        </p:grpSpPr>
        <p:sp>
          <p:nvSpPr>
            <p:cNvPr id="250" name=""/>
            <p:cNvSpPr/>
            <p:nvPr/>
          </p:nvSpPr>
          <p:spPr>
            <a:xfrm rot="21381600">
              <a:off x="538920" y="2186280"/>
              <a:ext cx="1123560" cy="29520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21411600">
              <a:off x="548640" y="2097360"/>
              <a:ext cx="1123560" cy="76824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21381600">
              <a:off x="545040" y="2196000"/>
              <a:ext cx="1112400" cy="29520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21411600">
              <a:off x="529560" y="1806840"/>
              <a:ext cx="1123200" cy="76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581760" y="19810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 #re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0160" y="402264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lock lev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yc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DC2D-C90B-4A9E-BFC1-A23753777D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320" y="38160"/>
            <a:ext cx="8991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ch Example: rename(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h Soft Upda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280" y="3809880"/>
            <a:ext cx="8839440" cy="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2368440"/>
            <a:ext cx="2666880" cy="908280"/>
          </a:xfrm>
          <a:prstGeom prst="rect">
            <a:avLst/>
          </a:prstGeom>
          <a:solidFill>
            <a:srgbClr val="f0fa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33160" y="2113560"/>
            <a:ext cx="1183320" cy="1119240"/>
            <a:chOff x="533160" y="2113560"/>
            <a:chExt cx="1183320" cy="1119240"/>
          </a:xfrm>
        </p:grpSpPr>
        <p:sp>
          <p:nvSpPr>
            <p:cNvPr id="260" name=""/>
            <p:cNvSpPr/>
            <p:nvPr/>
          </p:nvSpPr>
          <p:spPr>
            <a:xfrm rot="21381600">
              <a:off x="562680" y="2522880"/>
              <a:ext cx="1123560" cy="29520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21411600">
              <a:off x="572400" y="2433960"/>
              <a:ext cx="1123560" cy="76824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21381600">
              <a:off x="568800" y="2532600"/>
              <a:ext cx="1112400" cy="29520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21411600">
              <a:off x="553320" y="2143440"/>
              <a:ext cx="1123200" cy="76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3276720" y="2368440"/>
            <a:ext cx="2666880" cy="908280"/>
          </a:xfrm>
          <a:prstGeom prst="rect">
            <a:avLst/>
          </a:prstGeom>
          <a:solidFill>
            <a:srgbClr val="f0fa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3331800" y="2113560"/>
            <a:ext cx="1183320" cy="1119240"/>
            <a:chOff x="3331800" y="2113560"/>
            <a:chExt cx="1183320" cy="1119240"/>
          </a:xfrm>
        </p:grpSpPr>
        <p:sp>
          <p:nvSpPr>
            <p:cNvPr id="266" name=""/>
            <p:cNvSpPr/>
            <p:nvPr/>
          </p:nvSpPr>
          <p:spPr>
            <a:xfrm rot="21381600">
              <a:off x="3361320" y="2522880"/>
              <a:ext cx="1123560" cy="29520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21411600">
              <a:off x="3371040" y="2433960"/>
              <a:ext cx="1123560" cy="76824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21381600">
              <a:off x="3367440" y="2532600"/>
              <a:ext cx="1112400" cy="29520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21411600">
              <a:off x="3351960" y="2143440"/>
              <a:ext cx="1123200" cy="76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6095880" y="2368440"/>
            <a:ext cx="2667240" cy="908280"/>
          </a:xfrm>
          <a:prstGeom prst="rect">
            <a:avLst/>
          </a:prstGeom>
          <a:solidFill>
            <a:srgbClr val="f0fa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6151320" y="2113560"/>
            <a:ext cx="1183320" cy="1119240"/>
            <a:chOff x="6151320" y="2113560"/>
            <a:chExt cx="1183320" cy="1119240"/>
          </a:xfrm>
        </p:grpSpPr>
        <p:sp>
          <p:nvSpPr>
            <p:cNvPr id="272" name=""/>
            <p:cNvSpPr/>
            <p:nvPr/>
          </p:nvSpPr>
          <p:spPr>
            <a:xfrm rot="21381600">
              <a:off x="6180840" y="2522880"/>
              <a:ext cx="1123560" cy="29520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21411600">
              <a:off x="6190560" y="2433960"/>
              <a:ext cx="1123560" cy="76824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21381600">
              <a:off x="6186960" y="2532600"/>
              <a:ext cx="1112400" cy="29520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21411600">
              <a:off x="6171480" y="2143440"/>
              <a:ext cx="1123200" cy="76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012400" y="29718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ode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06880" y="297180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 d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721640" y="297180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 d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1676520" y="266688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4490640" y="26668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662120" y="1968480"/>
            <a:ext cx="4648320" cy="317520"/>
          </a:xfrm>
          <a:custGeom>
            <a:avLst/>
            <a:gdLst/>
            <a:ahLst/>
            <a:rect l="l" t="t" r="r" b="b"/>
            <a:pathLst>
              <a:path w="2928" h="200">
                <a:moveTo>
                  <a:pt x="0" y="152"/>
                </a:moveTo>
                <a:cubicBezTo>
                  <a:pt x="476" y="76"/>
                  <a:pt x="952" y="0"/>
                  <a:pt x="1440" y="8"/>
                </a:cubicBezTo>
                <a:cubicBezTo>
                  <a:pt x="1928" y="16"/>
                  <a:pt x="2428" y="108"/>
                  <a:pt x="2928" y="2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576960" y="2286000"/>
            <a:ext cx="68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302880" y="228600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49440" y="284328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 #re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49440" y="236232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 #re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09400" y="1776960"/>
            <a:ext cx="1183320" cy="1119240"/>
            <a:chOff x="509400" y="1776960"/>
            <a:chExt cx="1183320" cy="1119240"/>
          </a:xfrm>
        </p:grpSpPr>
        <p:sp>
          <p:nvSpPr>
            <p:cNvPr id="287" name=""/>
            <p:cNvSpPr/>
            <p:nvPr/>
          </p:nvSpPr>
          <p:spPr>
            <a:xfrm rot="21381600">
              <a:off x="538920" y="2186280"/>
              <a:ext cx="1123560" cy="29520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21411600">
              <a:off x="548640" y="2097360"/>
              <a:ext cx="1123560" cy="76824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21381600">
              <a:off x="545040" y="2196000"/>
              <a:ext cx="1112400" cy="29520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21411600">
              <a:off x="529560" y="1806840"/>
              <a:ext cx="1123200" cy="76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581760" y="19810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 #re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78360" y="4022640"/>
            <a:ext cx="27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tch lev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yc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2445840" y="5181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087360" y="4628160"/>
            <a:ext cx="1183320" cy="1119240"/>
            <a:chOff x="3087360" y="4628160"/>
            <a:chExt cx="1183320" cy="1119240"/>
          </a:xfrm>
        </p:grpSpPr>
        <p:grpSp>
          <p:nvGrpSpPr>
            <p:cNvPr id="295" name=""/>
            <p:cNvGrpSpPr/>
            <p:nvPr/>
          </p:nvGrpSpPr>
          <p:grpSpPr>
            <a:xfrm>
              <a:off x="3087360" y="4628160"/>
              <a:ext cx="1183320" cy="1119240"/>
              <a:chOff x="3087360" y="4628160"/>
              <a:chExt cx="1183320" cy="1119240"/>
            </a:xfrm>
          </p:grpSpPr>
          <p:sp>
            <p:nvSpPr>
              <p:cNvPr id="296" name=""/>
              <p:cNvSpPr/>
              <p:nvPr/>
            </p:nvSpPr>
            <p:spPr>
              <a:xfrm rot="21381600">
                <a:off x="3116880" y="5037480"/>
                <a:ext cx="1123560" cy="295200"/>
              </a:xfrm>
              <a:prstGeom prst="rect">
                <a:avLst/>
              </a:prstGeom>
              <a:solidFill>
                <a:srgbClr val="a0d4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21411600">
                <a:off x="3126600" y="4948560"/>
                <a:ext cx="1123560" cy="768240"/>
              </a:xfrm>
              <a:prstGeom prst="ellipse">
                <a:avLst/>
              </a:prstGeom>
              <a:solidFill>
                <a:srgbClr val="a0d4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21381600">
                <a:off x="3123000" y="5047200"/>
                <a:ext cx="1112400" cy="295200"/>
              </a:xfrm>
              <a:prstGeom prst="rect">
                <a:avLst/>
              </a:prstGeom>
              <a:solidFill>
                <a:srgbClr val="a0d4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21411600">
                <a:off x="3107520" y="4658040"/>
                <a:ext cx="1123200" cy="768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3332160" y="480060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r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1302840" y="4628160"/>
            <a:ext cx="1183320" cy="1119240"/>
            <a:chOff x="1302840" y="4628160"/>
            <a:chExt cx="1183320" cy="1119240"/>
          </a:xfrm>
        </p:grpSpPr>
        <p:grpSp>
          <p:nvGrpSpPr>
            <p:cNvPr id="302" name=""/>
            <p:cNvGrpSpPr/>
            <p:nvPr/>
          </p:nvGrpSpPr>
          <p:grpSpPr>
            <a:xfrm>
              <a:off x="1302840" y="4628160"/>
              <a:ext cx="1183320" cy="1119240"/>
              <a:chOff x="1302840" y="4628160"/>
              <a:chExt cx="1183320" cy="1119240"/>
            </a:xfrm>
          </p:grpSpPr>
          <p:sp>
            <p:nvSpPr>
              <p:cNvPr id="303" name=""/>
              <p:cNvSpPr/>
              <p:nvPr/>
            </p:nvSpPr>
            <p:spPr>
              <a:xfrm rot="21381600">
                <a:off x="1332360" y="5037480"/>
                <a:ext cx="1123560" cy="295200"/>
              </a:xfrm>
              <a:prstGeom prst="rect">
                <a:avLst/>
              </a:prstGeom>
              <a:solidFill>
                <a:srgbClr val="a0d4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21411600">
                <a:off x="1342080" y="4948560"/>
                <a:ext cx="1123560" cy="768240"/>
              </a:xfrm>
              <a:prstGeom prst="ellipse">
                <a:avLst/>
              </a:prstGeom>
              <a:solidFill>
                <a:srgbClr val="a0d4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21381600">
                <a:off x="1338480" y="5047200"/>
                <a:ext cx="1112400" cy="295200"/>
              </a:xfrm>
              <a:prstGeom prst="rect">
                <a:avLst/>
              </a:prstGeom>
              <a:solidFill>
                <a:srgbClr val="a0d4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21411600">
                <a:off x="1323000" y="4658040"/>
                <a:ext cx="1123200" cy="768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1419120" y="4876920"/>
              <a:ext cx="94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c #ref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 flipH="1">
            <a:off x="4255920" y="51814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4871520" y="4628160"/>
            <a:ext cx="1183320" cy="1119240"/>
            <a:chOff x="4871520" y="4628160"/>
            <a:chExt cx="1183320" cy="1119240"/>
          </a:xfrm>
        </p:grpSpPr>
        <p:grpSp>
          <p:nvGrpSpPr>
            <p:cNvPr id="310" name=""/>
            <p:cNvGrpSpPr/>
            <p:nvPr/>
          </p:nvGrpSpPr>
          <p:grpSpPr>
            <a:xfrm>
              <a:off x="4871520" y="4628160"/>
              <a:ext cx="1183320" cy="1119240"/>
              <a:chOff x="4871520" y="4628160"/>
              <a:chExt cx="1183320" cy="1119240"/>
            </a:xfrm>
          </p:grpSpPr>
          <p:sp>
            <p:nvSpPr>
              <p:cNvPr id="311" name=""/>
              <p:cNvSpPr/>
              <p:nvPr/>
            </p:nvSpPr>
            <p:spPr>
              <a:xfrm rot="21381600">
                <a:off x="4901040" y="5037480"/>
                <a:ext cx="1123560" cy="295200"/>
              </a:xfrm>
              <a:prstGeom prst="rect">
                <a:avLst/>
              </a:prstGeom>
              <a:solidFill>
                <a:srgbClr val="a0d4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21411600">
                <a:off x="4910760" y="4948560"/>
                <a:ext cx="1123560" cy="768240"/>
              </a:xfrm>
              <a:prstGeom prst="ellipse">
                <a:avLst/>
              </a:prstGeom>
              <a:solidFill>
                <a:srgbClr val="a0d4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1381600">
                <a:off x="4907160" y="5047200"/>
                <a:ext cx="1112400" cy="295200"/>
              </a:xfrm>
              <a:prstGeom prst="rect">
                <a:avLst/>
              </a:prstGeom>
              <a:solidFill>
                <a:srgbClr val="a0d4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21411600">
                <a:off x="4891680" y="4658040"/>
                <a:ext cx="1123200" cy="768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5023440" y="480060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mo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r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 flipH="1">
            <a:off x="6027480" y="5181480"/>
            <a:ext cx="680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6657480" y="4615560"/>
            <a:ext cx="1183320" cy="1119240"/>
            <a:chOff x="6657480" y="4615560"/>
            <a:chExt cx="1183320" cy="1119240"/>
          </a:xfrm>
        </p:grpSpPr>
        <p:grpSp>
          <p:nvGrpSpPr>
            <p:cNvPr id="318" name=""/>
            <p:cNvGrpSpPr/>
            <p:nvPr/>
          </p:nvGrpSpPr>
          <p:grpSpPr>
            <a:xfrm>
              <a:off x="6657480" y="4615560"/>
              <a:ext cx="1183320" cy="1119240"/>
              <a:chOff x="6657480" y="4615560"/>
              <a:chExt cx="1183320" cy="1119240"/>
            </a:xfrm>
          </p:grpSpPr>
          <p:sp>
            <p:nvSpPr>
              <p:cNvPr id="319" name=""/>
              <p:cNvSpPr/>
              <p:nvPr/>
            </p:nvSpPr>
            <p:spPr>
              <a:xfrm rot="21381600">
                <a:off x="6687000" y="5024880"/>
                <a:ext cx="1123560" cy="295200"/>
              </a:xfrm>
              <a:prstGeom prst="rect">
                <a:avLst/>
              </a:prstGeom>
              <a:solidFill>
                <a:srgbClr val="a0d4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21411600">
                <a:off x="6696720" y="4935960"/>
                <a:ext cx="1123560" cy="768240"/>
              </a:xfrm>
              <a:prstGeom prst="ellipse">
                <a:avLst/>
              </a:prstGeom>
              <a:solidFill>
                <a:srgbClr val="a0d4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21381600">
                <a:off x="6693120" y="5034600"/>
                <a:ext cx="1112400" cy="295200"/>
              </a:xfrm>
              <a:prstGeom prst="rect">
                <a:avLst/>
              </a:prstGeom>
              <a:solidFill>
                <a:srgbClr val="a0d4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21411600">
                <a:off x="6677640" y="4645440"/>
                <a:ext cx="1123200" cy="768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6729840" y="4844880"/>
              <a:ext cx="101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c #ref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8546-B7B3-4F0A-A06B-D72392A4D9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320" y="38160"/>
            <a:ext cx="8991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ch Example: rename(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h Soft Upda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2368440"/>
            <a:ext cx="2666880" cy="908280"/>
          </a:xfrm>
          <a:prstGeom prst="rect">
            <a:avLst/>
          </a:prstGeom>
          <a:solidFill>
            <a:srgbClr val="f0fa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533160" y="2113560"/>
            <a:ext cx="1183320" cy="1119240"/>
            <a:chOff x="533160" y="2113560"/>
            <a:chExt cx="1183320" cy="1119240"/>
          </a:xfrm>
        </p:grpSpPr>
        <p:sp>
          <p:nvSpPr>
            <p:cNvPr id="327" name=""/>
            <p:cNvSpPr/>
            <p:nvPr/>
          </p:nvSpPr>
          <p:spPr>
            <a:xfrm rot="21381600">
              <a:off x="562680" y="2522880"/>
              <a:ext cx="1123560" cy="29520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21411600">
              <a:off x="572400" y="2433960"/>
              <a:ext cx="1123560" cy="76824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21381600">
              <a:off x="568800" y="2532600"/>
              <a:ext cx="1112400" cy="29520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21411600">
              <a:off x="553320" y="2143440"/>
              <a:ext cx="1123200" cy="76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3276720" y="2368440"/>
            <a:ext cx="2666880" cy="908280"/>
          </a:xfrm>
          <a:prstGeom prst="rect">
            <a:avLst/>
          </a:prstGeom>
          <a:solidFill>
            <a:srgbClr val="f0fa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3331800" y="2113560"/>
            <a:ext cx="1183320" cy="1119240"/>
            <a:chOff x="3331800" y="2113560"/>
            <a:chExt cx="1183320" cy="1119240"/>
          </a:xfrm>
        </p:grpSpPr>
        <p:sp>
          <p:nvSpPr>
            <p:cNvPr id="333" name=""/>
            <p:cNvSpPr/>
            <p:nvPr/>
          </p:nvSpPr>
          <p:spPr>
            <a:xfrm rot="21381600">
              <a:off x="3361320" y="2522880"/>
              <a:ext cx="1123560" cy="29520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21411600">
              <a:off x="3371040" y="2433960"/>
              <a:ext cx="1123560" cy="76824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21381600">
              <a:off x="3367440" y="2532600"/>
              <a:ext cx="1112400" cy="29520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21411600">
              <a:off x="3351960" y="2143440"/>
              <a:ext cx="1123200" cy="76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6095880" y="2368440"/>
            <a:ext cx="2667240" cy="908280"/>
          </a:xfrm>
          <a:prstGeom prst="rect">
            <a:avLst/>
          </a:prstGeom>
          <a:solidFill>
            <a:srgbClr val="f0fa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6151320" y="2113560"/>
            <a:ext cx="1183320" cy="1119240"/>
            <a:chOff x="6151320" y="2113560"/>
            <a:chExt cx="1183320" cy="1119240"/>
          </a:xfrm>
        </p:grpSpPr>
        <p:sp>
          <p:nvSpPr>
            <p:cNvPr id="339" name=""/>
            <p:cNvSpPr/>
            <p:nvPr/>
          </p:nvSpPr>
          <p:spPr>
            <a:xfrm rot="21381600">
              <a:off x="6180840" y="2522880"/>
              <a:ext cx="1123560" cy="29520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21411600">
              <a:off x="6190560" y="2433960"/>
              <a:ext cx="1123560" cy="76824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21381600">
              <a:off x="6186960" y="2532600"/>
              <a:ext cx="1112400" cy="29520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21411600">
              <a:off x="6171480" y="2143440"/>
              <a:ext cx="1123200" cy="76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09400" y="741960"/>
            <a:ext cx="1183320" cy="1119240"/>
            <a:chOff x="509400" y="741960"/>
            <a:chExt cx="1183320" cy="1119240"/>
          </a:xfrm>
        </p:grpSpPr>
        <p:sp>
          <p:nvSpPr>
            <p:cNvPr id="344" name=""/>
            <p:cNvSpPr/>
            <p:nvPr/>
          </p:nvSpPr>
          <p:spPr>
            <a:xfrm rot="21381600">
              <a:off x="538920" y="1151280"/>
              <a:ext cx="1123560" cy="29520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21411600">
              <a:off x="548640" y="1062360"/>
              <a:ext cx="1123560" cy="76824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21381600">
              <a:off x="545040" y="1161000"/>
              <a:ext cx="1112400" cy="29520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21411600">
              <a:off x="529560" y="771840"/>
              <a:ext cx="1123200" cy="76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2012400" y="29718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ode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006880" y="297180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 d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21640" y="297180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 d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1676520" y="266688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490640" y="26668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576960" y="2286000"/>
            <a:ext cx="68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302880" y="228600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81760" y="90324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 #re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49440" y="236232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 #re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" y="685800"/>
            <a:ext cx="1371600" cy="121932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668600" y="1135080"/>
            <a:ext cx="464796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755360" y="148284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o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1295280" y="1676520"/>
            <a:ext cx="533520" cy="0"/>
          </a:xfrm>
          <a:prstGeom prst="line">
            <a:avLst/>
          </a:prstGeom>
          <a:ln w="7632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603440" y="441972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alid block writeo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711440" y="4890960"/>
            <a:ext cx="1218960" cy="414360"/>
          </a:xfrm>
          <a:prstGeom prst="rect">
            <a:avLst/>
          </a:prstGeom>
          <a:solidFill>
            <a:srgbClr val="f0fa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1727280" y="4809240"/>
            <a:ext cx="487440" cy="462240"/>
            <a:chOff x="1727280" y="4809240"/>
            <a:chExt cx="487440" cy="462240"/>
          </a:xfrm>
        </p:grpSpPr>
        <p:sp>
          <p:nvSpPr>
            <p:cNvPr id="364" name=""/>
            <p:cNvSpPr/>
            <p:nvPr/>
          </p:nvSpPr>
          <p:spPr>
            <a:xfrm rot="21381600">
              <a:off x="1739160" y="4978440"/>
              <a:ext cx="463320" cy="12168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21411600">
              <a:off x="1743120" y="4941360"/>
              <a:ext cx="463320" cy="31716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21381600">
              <a:off x="1741680" y="4982400"/>
              <a:ext cx="458640" cy="12168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21411600">
              <a:off x="1735560" y="4821840"/>
              <a:ext cx="462960" cy="317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2289960" y="500688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755000" y="477828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71144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636920" y="54244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52280" y="3809880"/>
            <a:ext cx="8839440" cy="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B244-832E-46F9-965A-974E0C647A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6320" y="38160"/>
            <a:ext cx="8991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ch Example: rename(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h Soft Upda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57200" y="2368440"/>
            <a:ext cx="2666880" cy="908280"/>
          </a:xfrm>
          <a:prstGeom prst="rect">
            <a:avLst/>
          </a:prstGeom>
          <a:solidFill>
            <a:srgbClr val="f0fa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276720" y="2368440"/>
            <a:ext cx="2666880" cy="908280"/>
          </a:xfrm>
          <a:prstGeom prst="rect">
            <a:avLst/>
          </a:prstGeom>
          <a:solidFill>
            <a:srgbClr val="f0fa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331800" y="2113560"/>
            <a:ext cx="1183320" cy="1119240"/>
            <a:chOff x="3331800" y="2113560"/>
            <a:chExt cx="1183320" cy="1119240"/>
          </a:xfrm>
        </p:grpSpPr>
        <p:sp>
          <p:nvSpPr>
            <p:cNvPr id="377" name=""/>
            <p:cNvSpPr/>
            <p:nvPr/>
          </p:nvSpPr>
          <p:spPr>
            <a:xfrm rot="21381600">
              <a:off x="3361320" y="2522880"/>
              <a:ext cx="1123560" cy="29520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21411600">
              <a:off x="3371040" y="2433960"/>
              <a:ext cx="1123560" cy="76824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21381600">
              <a:off x="3367440" y="2532600"/>
              <a:ext cx="1112400" cy="29520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21411600">
              <a:off x="3351960" y="2143440"/>
              <a:ext cx="1123200" cy="76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6095880" y="2368440"/>
            <a:ext cx="2667240" cy="908280"/>
          </a:xfrm>
          <a:prstGeom prst="rect">
            <a:avLst/>
          </a:prstGeom>
          <a:solidFill>
            <a:srgbClr val="f0fa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6151320" y="2113560"/>
            <a:ext cx="1183320" cy="1119240"/>
            <a:chOff x="6151320" y="2113560"/>
            <a:chExt cx="1183320" cy="1119240"/>
          </a:xfrm>
        </p:grpSpPr>
        <p:sp>
          <p:nvSpPr>
            <p:cNvPr id="383" name=""/>
            <p:cNvSpPr/>
            <p:nvPr/>
          </p:nvSpPr>
          <p:spPr>
            <a:xfrm rot="21381600">
              <a:off x="6180840" y="2522880"/>
              <a:ext cx="1123560" cy="29520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21411600">
              <a:off x="6190560" y="2433960"/>
              <a:ext cx="1123560" cy="76824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21381600">
              <a:off x="6186960" y="2532600"/>
              <a:ext cx="1112400" cy="29520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21411600">
              <a:off x="6171480" y="2143440"/>
              <a:ext cx="1123200" cy="76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509400" y="741960"/>
            <a:ext cx="1183320" cy="1119240"/>
            <a:chOff x="509400" y="741960"/>
            <a:chExt cx="1183320" cy="1119240"/>
          </a:xfrm>
        </p:grpSpPr>
        <p:sp>
          <p:nvSpPr>
            <p:cNvPr id="388" name=""/>
            <p:cNvSpPr/>
            <p:nvPr/>
          </p:nvSpPr>
          <p:spPr>
            <a:xfrm rot="21381600">
              <a:off x="538920" y="1151280"/>
              <a:ext cx="1123560" cy="29520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21411600">
              <a:off x="548640" y="1062360"/>
              <a:ext cx="1123560" cy="76824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21381600">
              <a:off x="545040" y="1161000"/>
              <a:ext cx="1112400" cy="29520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21411600">
              <a:off x="529560" y="771840"/>
              <a:ext cx="1123200" cy="76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2012400" y="29718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ode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006880" y="297180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 d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721640" y="297180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 d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490640" y="26668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576960" y="2286000"/>
            <a:ext cx="68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302880" y="228600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81760" y="90324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 #re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" y="685800"/>
            <a:ext cx="1371600" cy="121932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668600" y="1135080"/>
            <a:ext cx="464796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755360" y="148284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o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1295280" y="1676520"/>
            <a:ext cx="533520" cy="0"/>
          </a:xfrm>
          <a:prstGeom prst="line">
            <a:avLst/>
          </a:prstGeom>
          <a:ln w="7632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603440" y="441972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alid block writeo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711440" y="4890960"/>
            <a:ext cx="1218960" cy="414360"/>
          </a:xfrm>
          <a:prstGeom prst="rect">
            <a:avLst/>
          </a:prstGeom>
          <a:solidFill>
            <a:srgbClr val="f0fa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727280" y="4809240"/>
            <a:ext cx="487440" cy="462240"/>
            <a:chOff x="1727280" y="4809240"/>
            <a:chExt cx="487440" cy="462240"/>
          </a:xfrm>
        </p:grpSpPr>
        <p:sp>
          <p:nvSpPr>
            <p:cNvPr id="406" name=""/>
            <p:cNvSpPr/>
            <p:nvPr/>
          </p:nvSpPr>
          <p:spPr>
            <a:xfrm rot="21381600">
              <a:off x="1739160" y="4978440"/>
              <a:ext cx="463320" cy="12168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21411600">
              <a:off x="1743120" y="4941360"/>
              <a:ext cx="463320" cy="31716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21381600">
              <a:off x="1741680" y="4982400"/>
              <a:ext cx="458640" cy="12168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21411600">
              <a:off x="1735560" y="4821840"/>
              <a:ext cx="462960" cy="317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2289960" y="500688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755000" y="477828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71144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636920" y="54244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52280" y="3809880"/>
            <a:ext cx="8839440" cy="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C17B-C5DF-489F-A022-928FE889DA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457200" y="2368440"/>
            <a:ext cx="2666880" cy="908280"/>
          </a:xfrm>
          <a:prstGeom prst="rect">
            <a:avLst/>
          </a:prstGeom>
          <a:solidFill>
            <a:srgbClr val="f0fa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6320" y="38160"/>
            <a:ext cx="8991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ch Example: rename() With Soft Upda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276720" y="2368440"/>
            <a:ext cx="2666880" cy="908280"/>
          </a:xfrm>
          <a:prstGeom prst="rect">
            <a:avLst/>
          </a:prstGeom>
          <a:solidFill>
            <a:srgbClr val="f0fa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3331800" y="2113560"/>
            <a:ext cx="1183320" cy="1119240"/>
            <a:chOff x="3331800" y="2113560"/>
            <a:chExt cx="1183320" cy="1119240"/>
          </a:xfrm>
        </p:grpSpPr>
        <p:sp>
          <p:nvSpPr>
            <p:cNvPr id="419" name=""/>
            <p:cNvSpPr/>
            <p:nvPr/>
          </p:nvSpPr>
          <p:spPr>
            <a:xfrm rot="21381600">
              <a:off x="3361320" y="2522880"/>
              <a:ext cx="1123560" cy="29520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21411600">
              <a:off x="3371040" y="2433960"/>
              <a:ext cx="1123560" cy="76824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21381600">
              <a:off x="3367440" y="2532600"/>
              <a:ext cx="1112400" cy="29520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21411600">
              <a:off x="3351960" y="2143440"/>
              <a:ext cx="1123200" cy="76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6095880" y="2368440"/>
            <a:ext cx="2667240" cy="908280"/>
          </a:xfrm>
          <a:prstGeom prst="rect">
            <a:avLst/>
          </a:prstGeom>
          <a:solidFill>
            <a:srgbClr val="f0fa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6151320" y="2113560"/>
            <a:ext cx="1183320" cy="1119240"/>
            <a:chOff x="6151320" y="2113560"/>
            <a:chExt cx="1183320" cy="1119240"/>
          </a:xfrm>
        </p:grpSpPr>
        <p:sp>
          <p:nvSpPr>
            <p:cNvPr id="425" name=""/>
            <p:cNvSpPr/>
            <p:nvPr/>
          </p:nvSpPr>
          <p:spPr>
            <a:xfrm rot="21381600">
              <a:off x="6180840" y="2522880"/>
              <a:ext cx="1123560" cy="29520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21411600">
              <a:off x="6190560" y="2433960"/>
              <a:ext cx="1123560" cy="76824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21381600">
              <a:off x="6186960" y="2532600"/>
              <a:ext cx="1112400" cy="29520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21411600">
              <a:off x="6171480" y="2143440"/>
              <a:ext cx="1123200" cy="76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2012400" y="29718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ode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006880" y="297180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 d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721640" y="297180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 d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4498560" y="26668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447920" y="1968480"/>
            <a:ext cx="4862520" cy="317520"/>
          </a:xfrm>
          <a:custGeom>
            <a:avLst/>
            <a:gdLst/>
            <a:ahLst/>
            <a:rect l="l" t="t" r="r" b="b"/>
            <a:pathLst>
              <a:path w="2928" h="200">
                <a:moveTo>
                  <a:pt x="0" y="152"/>
                </a:moveTo>
                <a:cubicBezTo>
                  <a:pt x="476" y="76"/>
                  <a:pt x="952" y="0"/>
                  <a:pt x="1440" y="8"/>
                </a:cubicBezTo>
                <a:cubicBezTo>
                  <a:pt x="1928" y="16"/>
                  <a:pt x="2428" y="108"/>
                  <a:pt x="2928" y="2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576960" y="2286000"/>
            <a:ext cx="68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302880" y="228600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603440" y="441972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alid block writeo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711440" y="4890960"/>
            <a:ext cx="1218960" cy="414360"/>
          </a:xfrm>
          <a:prstGeom prst="rect">
            <a:avLst/>
          </a:prstGeom>
          <a:solidFill>
            <a:srgbClr val="f0fa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1727280" y="4809240"/>
            <a:ext cx="487440" cy="462240"/>
            <a:chOff x="1727280" y="4809240"/>
            <a:chExt cx="487440" cy="462240"/>
          </a:xfrm>
        </p:grpSpPr>
        <p:sp>
          <p:nvSpPr>
            <p:cNvPr id="439" name=""/>
            <p:cNvSpPr/>
            <p:nvPr/>
          </p:nvSpPr>
          <p:spPr>
            <a:xfrm rot="21381600">
              <a:off x="1739160" y="4978440"/>
              <a:ext cx="463320" cy="12168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21411600">
              <a:off x="1743120" y="4941360"/>
              <a:ext cx="463320" cy="31716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21381600">
              <a:off x="1741680" y="4982400"/>
              <a:ext cx="458640" cy="12168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21411600">
              <a:off x="1735560" y="4821840"/>
              <a:ext cx="462960" cy="317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2293200" y="500688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755000" y="477828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71144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636920" y="54244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206880" y="4890960"/>
            <a:ext cx="1217520" cy="414360"/>
          </a:xfrm>
          <a:prstGeom prst="rect">
            <a:avLst/>
          </a:prstGeom>
          <a:solidFill>
            <a:srgbClr val="f0fa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3222720" y="4809240"/>
            <a:ext cx="487440" cy="462240"/>
            <a:chOff x="3222720" y="4809240"/>
            <a:chExt cx="487440" cy="462240"/>
          </a:xfrm>
        </p:grpSpPr>
        <p:sp>
          <p:nvSpPr>
            <p:cNvPr id="449" name=""/>
            <p:cNvSpPr/>
            <p:nvPr/>
          </p:nvSpPr>
          <p:spPr>
            <a:xfrm rot="21381600">
              <a:off x="3234600" y="4978440"/>
              <a:ext cx="463320" cy="12168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21411600">
              <a:off x="3238560" y="4941360"/>
              <a:ext cx="463320" cy="31716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21381600">
              <a:off x="3237120" y="4982400"/>
              <a:ext cx="458640" cy="12168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21411600">
              <a:off x="3231000" y="4821840"/>
              <a:ext cx="462960" cy="317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3758760" y="50068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208320" y="47782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861640" y="50068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730760" y="4890960"/>
            <a:ext cx="1217520" cy="414360"/>
          </a:xfrm>
          <a:prstGeom prst="rect">
            <a:avLst/>
          </a:prstGeom>
          <a:solidFill>
            <a:srgbClr val="f0fa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4746600" y="4809240"/>
            <a:ext cx="487440" cy="462240"/>
            <a:chOff x="4746600" y="4809240"/>
            <a:chExt cx="487440" cy="462240"/>
          </a:xfrm>
        </p:grpSpPr>
        <p:sp>
          <p:nvSpPr>
            <p:cNvPr id="458" name=""/>
            <p:cNvSpPr/>
            <p:nvPr/>
          </p:nvSpPr>
          <p:spPr>
            <a:xfrm rot="21381600">
              <a:off x="4758480" y="4978440"/>
              <a:ext cx="463320" cy="12168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21411600">
              <a:off x="4762440" y="4941360"/>
              <a:ext cx="463320" cy="31716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21381600">
              <a:off x="4761000" y="4982400"/>
              <a:ext cx="458640" cy="12168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21411600">
              <a:off x="4754880" y="4821840"/>
              <a:ext cx="462960" cy="317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5183280" y="50068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728600" y="477828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85880" y="50068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254640" y="4890960"/>
            <a:ext cx="1217880" cy="414360"/>
          </a:xfrm>
          <a:prstGeom prst="rect">
            <a:avLst/>
          </a:prstGeom>
          <a:solidFill>
            <a:srgbClr val="f0fa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6270480" y="4809240"/>
            <a:ext cx="487440" cy="462240"/>
            <a:chOff x="6270480" y="4809240"/>
            <a:chExt cx="487440" cy="462240"/>
          </a:xfrm>
        </p:grpSpPr>
        <p:sp>
          <p:nvSpPr>
            <p:cNvPr id="467" name=""/>
            <p:cNvSpPr/>
            <p:nvPr/>
          </p:nvSpPr>
          <p:spPr>
            <a:xfrm rot="21381600">
              <a:off x="6282360" y="4978440"/>
              <a:ext cx="463320" cy="12168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21411600">
              <a:off x="6286320" y="4941360"/>
              <a:ext cx="463320" cy="31716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21381600">
              <a:off x="6284880" y="4982400"/>
              <a:ext cx="458640" cy="12168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21411600">
              <a:off x="6278760" y="4821840"/>
              <a:ext cx="462960" cy="317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6858720" y="500688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262560" y="477828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909760" y="50068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52280" y="3809880"/>
            <a:ext cx="8839440" cy="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533160" y="2113560"/>
            <a:ext cx="1183320" cy="1119240"/>
            <a:chOff x="533160" y="2113560"/>
            <a:chExt cx="1183320" cy="1119240"/>
          </a:xfrm>
        </p:grpSpPr>
        <p:sp>
          <p:nvSpPr>
            <p:cNvPr id="476" name=""/>
            <p:cNvSpPr/>
            <p:nvPr/>
          </p:nvSpPr>
          <p:spPr>
            <a:xfrm rot="21381600">
              <a:off x="562680" y="2522880"/>
              <a:ext cx="1123560" cy="29520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21411600">
              <a:off x="572400" y="2433960"/>
              <a:ext cx="1123560" cy="76824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21381600">
              <a:off x="568800" y="2532600"/>
              <a:ext cx="1112400" cy="29520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21411600">
              <a:off x="553320" y="2143440"/>
              <a:ext cx="1123200" cy="76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581760" y="228600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 #re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4EA1-4FAF-49C0-92A3-EE089F0152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380880" y="1371600"/>
            <a:ext cx="2819520" cy="4724280"/>
          </a:xfrm>
          <a:prstGeom prst="rect">
            <a:avLst/>
          </a:prstGeom>
          <a:solidFill>
            <a:srgbClr val="ffe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6320" y="38160"/>
            <a:ext cx="8991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ch Example: rename() With Journa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276720" y="2368440"/>
            <a:ext cx="2666880" cy="908280"/>
          </a:xfrm>
          <a:prstGeom prst="rect">
            <a:avLst/>
          </a:prstGeom>
          <a:solidFill>
            <a:srgbClr val="f0fa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331800" y="2113560"/>
            <a:ext cx="1183320" cy="1119240"/>
            <a:chOff x="3331800" y="2113560"/>
            <a:chExt cx="1183320" cy="1119240"/>
          </a:xfrm>
        </p:grpSpPr>
        <p:sp>
          <p:nvSpPr>
            <p:cNvPr id="485" name=""/>
            <p:cNvSpPr/>
            <p:nvPr/>
          </p:nvSpPr>
          <p:spPr>
            <a:xfrm rot="21381600">
              <a:off x="3361320" y="2522880"/>
              <a:ext cx="1123560" cy="29520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21411600">
              <a:off x="3371040" y="2433960"/>
              <a:ext cx="1123560" cy="76824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21381600">
              <a:off x="3367440" y="2532600"/>
              <a:ext cx="1112400" cy="29520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21411600">
              <a:off x="3351960" y="2143440"/>
              <a:ext cx="1123200" cy="76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95880" y="2368440"/>
            <a:ext cx="2667240" cy="908280"/>
          </a:xfrm>
          <a:prstGeom prst="rect">
            <a:avLst/>
          </a:prstGeom>
          <a:solidFill>
            <a:srgbClr val="f0fa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6151320" y="2113560"/>
            <a:ext cx="1183320" cy="1119240"/>
            <a:chOff x="6151320" y="2113560"/>
            <a:chExt cx="1183320" cy="1119240"/>
          </a:xfrm>
        </p:grpSpPr>
        <p:sp>
          <p:nvSpPr>
            <p:cNvPr id="491" name=""/>
            <p:cNvSpPr/>
            <p:nvPr/>
          </p:nvSpPr>
          <p:spPr>
            <a:xfrm rot="21381600">
              <a:off x="6180840" y="2522880"/>
              <a:ext cx="1123560" cy="29520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21411600">
              <a:off x="6190560" y="2433960"/>
              <a:ext cx="1123560" cy="76824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21381600">
              <a:off x="6186960" y="2532600"/>
              <a:ext cx="1112400" cy="29520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21411600">
              <a:off x="6171480" y="2143440"/>
              <a:ext cx="1123200" cy="76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5006880" y="297180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 d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721640" y="297180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 d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576960" y="2286000"/>
            <a:ext cx="68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302880" y="228600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57200" y="2362320"/>
            <a:ext cx="2666880" cy="907920"/>
          </a:xfrm>
          <a:prstGeom prst="rect">
            <a:avLst/>
          </a:prstGeom>
          <a:solidFill>
            <a:srgbClr val="f0fa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552240" y="2113560"/>
            <a:ext cx="1183320" cy="1119240"/>
            <a:chOff x="552240" y="2113560"/>
            <a:chExt cx="1183320" cy="1119240"/>
          </a:xfrm>
        </p:grpSpPr>
        <p:sp>
          <p:nvSpPr>
            <p:cNvPr id="501" name=""/>
            <p:cNvSpPr/>
            <p:nvPr/>
          </p:nvSpPr>
          <p:spPr>
            <a:xfrm rot="21381600">
              <a:off x="581760" y="2522880"/>
              <a:ext cx="1123560" cy="29520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21411600">
              <a:off x="591480" y="2433960"/>
              <a:ext cx="1123560" cy="76824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21381600">
              <a:off x="587880" y="2532600"/>
              <a:ext cx="1112400" cy="29520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21411600">
              <a:off x="572400" y="2143440"/>
              <a:ext cx="1123200" cy="76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711360" y="2286000"/>
            <a:ext cx="83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x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362320" y="2971800"/>
            <a:ext cx="83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xn 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1086840" y="1207080"/>
            <a:ext cx="5595840" cy="244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7" y="6752"/>
                </a:moveTo>
                <a:arcTo wR="10800" hR="10800" stAng="-9479124" swAng="8183123"/>
                <a:lnTo>
                  <a:pt x="10800" y="10800"/>
                </a:lnTo>
                <a:close/>
              </a:path>
              <a:path fill="none" w="21600" h="21600">
                <a:moveTo>
                  <a:pt x="787" y="6752"/>
                </a:moveTo>
                <a:arcTo wR="10800" hR="10800" stAng="-9479124" swAng="8183123"/>
              </a:path>
            </a:pathLst>
          </a:custGeom>
          <a:noFill/>
          <a:ln w="381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57200" y="3708360"/>
            <a:ext cx="2666880" cy="907920"/>
          </a:xfrm>
          <a:prstGeom prst="rect">
            <a:avLst/>
          </a:prstGeom>
          <a:solidFill>
            <a:srgbClr val="f0fa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512280" y="3453120"/>
            <a:ext cx="1183680" cy="1119600"/>
            <a:chOff x="512280" y="3453120"/>
            <a:chExt cx="1183680" cy="1119600"/>
          </a:xfrm>
        </p:grpSpPr>
        <p:sp>
          <p:nvSpPr>
            <p:cNvPr id="510" name=""/>
            <p:cNvSpPr/>
            <p:nvPr/>
          </p:nvSpPr>
          <p:spPr>
            <a:xfrm rot="21381600">
              <a:off x="541800" y="3862800"/>
              <a:ext cx="1123920" cy="29520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21411600">
              <a:off x="551520" y="3773880"/>
              <a:ext cx="1123920" cy="76824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21381600">
              <a:off x="547920" y="3872520"/>
              <a:ext cx="1112760" cy="29520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21411600">
              <a:off x="532440" y="3483000"/>
              <a:ext cx="1123560" cy="76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457200" y="5079960"/>
            <a:ext cx="2666880" cy="907920"/>
          </a:xfrm>
          <a:prstGeom prst="rect">
            <a:avLst/>
          </a:prstGeom>
          <a:solidFill>
            <a:srgbClr val="f0fa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512280" y="4824720"/>
            <a:ext cx="1183680" cy="1119600"/>
            <a:chOff x="512280" y="4824720"/>
            <a:chExt cx="1183680" cy="1119600"/>
          </a:xfrm>
        </p:grpSpPr>
        <p:sp>
          <p:nvSpPr>
            <p:cNvPr id="516" name=""/>
            <p:cNvSpPr/>
            <p:nvPr/>
          </p:nvSpPr>
          <p:spPr>
            <a:xfrm rot="21381600">
              <a:off x="541800" y="5234400"/>
              <a:ext cx="1123920" cy="29520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21411600">
              <a:off x="551520" y="5145480"/>
              <a:ext cx="1123920" cy="76824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21381600">
              <a:off x="547920" y="5244120"/>
              <a:ext cx="1112760" cy="29520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21411600">
              <a:off x="532440" y="4854600"/>
              <a:ext cx="1123560" cy="76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2034000" y="4311720"/>
            <a:ext cx="114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 cop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098720" y="290340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57440" y="3625920"/>
            <a:ext cx="68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64200" y="499752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034000" y="5683320"/>
            <a:ext cx="114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 cop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1692360" y="2630520"/>
            <a:ext cx="1660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-640440" y="2065320"/>
            <a:ext cx="4937040" cy="152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98" y="2843"/>
                </a:moveTo>
                <a:arcTo wR="10800" hR="10800" stAng="-7952470" swAng="2777425"/>
                <a:lnTo>
                  <a:pt x="10800" y="10800"/>
                </a:lnTo>
                <a:close/>
              </a:path>
              <a:path fill="none" w="21600" h="21600">
                <a:moveTo>
                  <a:pt x="3498" y="2843"/>
                </a:moveTo>
                <a:arcTo wR="10800" hR="10800" stAng="-7952470" swAng="2777425"/>
              </a:path>
            </a:pathLst>
          </a:custGeom>
          <a:noFill/>
          <a:ln w="381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267480" y="2592720"/>
            <a:ext cx="1082520" cy="245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722" y="737"/>
                </a:moveTo>
                <a:arcTo wR="10800" hR="10800" stAng="-4122265" swAng="8578156"/>
                <a:lnTo>
                  <a:pt x="10800" y="10800"/>
                </a:lnTo>
                <a:close/>
              </a:path>
              <a:path fill="none" w="21600" h="21600">
                <a:moveTo>
                  <a:pt x="14722" y="737"/>
                </a:moveTo>
                <a:arcTo wR="10800" hR="10800" stAng="-4122265" swAng="8578156"/>
              </a:path>
            </a:pathLst>
          </a:custGeom>
          <a:noFill/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372680" y="1339920"/>
            <a:ext cx="8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u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-1239120" y="1805040"/>
            <a:ext cx="8072280" cy="243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53" y="5058"/>
                </a:moveTo>
                <a:arcTo wR="10800" hR="10800" stAng="-8872739" swAng="4598065"/>
                <a:lnTo>
                  <a:pt x="10800" y="10800"/>
                </a:lnTo>
                <a:close/>
              </a:path>
              <a:path fill="none" w="21600" h="21600">
                <a:moveTo>
                  <a:pt x="1653" y="5058"/>
                </a:moveTo>
                <a:arcTo wR="10800" hR="10800" stAng="-8872739" swAng="4598065"/>
              </a:path>
            </a:pathLst>
          </a:custGeom>
          <a:noFill/>
          <a:ln w="381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28680" y="2855880"/>
            <a:ext cx="83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x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533160" y="1719720"/>
            <a:ext cx="1183320" cy="1119240"/>
            <a:chOff x="533160" y="1719720"/>
            <a:chExt cx="1183320" cy="1119240"/>
          </a:xfrm>
        </p:grpSpPr>
        <p:sp>
          <p:nvSpPr>
            <p:cNvPr id="532" name=""/>
            <p:cNvSpPr/>
            <p:nvPr/>
          </p:nvSpPr>
          <p:spPr>
            <a:xfrm rot="21381600">
              <a:off x="562680" y="2129040"/>
              <a:ext cx="1123560" cy="29520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21411600">
              <a:off x="572400" y="2040120"/>
              <a:ext cx="1123560" cy="76824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21381600">
              <a:off x="568800" y="2138760"/>
              <a:ext cx="1112400" cy="29520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21411600">
              <a:off x="553320" y="1749600"/>
              <a:ext cx="1123200" cy="76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644400" y="1892160"/>
            <a:ext cx="10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x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17DB-2100-4DB1-851A-29AC10CBC3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1866960" y="4578480"/>
            <a:ext cx="2666880" cy="907920"/>
          </a:xfrm>
          <a:prstGeom prst="rect">
            <a:avLst/>
          </a:prstGeom>
          <a:solidFill>
            <a:srgbClr val="f0fa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943280" y="4267080"/>
            <a:ext cx="2514240" cy="1080720"/>
            <a:chOff x="1943280" y="4267080"/>
            <a:chExt cx="2514240" cy="1080720"/>
          </a:xfrm>
        </p:grpSpPr>
        <p:sp>
          <p:nvSpPr>
            <p:cNvPr id="539" name=""/>
            <p:cNvSpPr/>
            <p:nvPr/>
          </p:nvSpPr>
          <p:spPr>
            <a:xfrm>
              <a:off x="1946520" y="4654440"/>
              <a:ext cx="2511000" cy="30096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943280" y="4569480"/>
              <a:ext cx="2511000" cy="77832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960920" y="4665600"/>
              <a:ext cx="2486520" cy="29952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946520" y="4267080"/>
              <a:ext cx="2511000" cy="778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4610160" y="4495680"/>
            <a:ext cx="2666880" cy="908280"/>
          </a:xfrm>
          <a:prstGeom prst="rect">
            <a:avLst/>
          </a:prstGeom>
          <a:solidFill>
            <a:srgbClr val="f0fa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4648320" y="4267080"/>
            <a:ext cx="2514240" cy="1080720"/>
            <a:chOff x="4648320" y="4267080"/>
            <a:chExt cx="2514240" cy="1080720"/>
          </a:xfrm>
        </p:grpSpPr>
        <p:sp>
          <p:nvSpPr>
            <p:cNvPr id="545" name=""/>
            <p:cNvSpPr/>
            <p:nvPr/>
          </p:nvSpPr>
          <p:spPr>
            <a:xfrm>
              <a:off x="4651560" y="4654440"/>
              <a:ext cx="2511000" cy="30096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648320" y="4569480"/>
              <a:ext cx="2511000" cy="77832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665960" y="4665600"/>
              <a:ext cx="2486520" cy="29952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651560" y="4267080"/>
              <a:ext cx="2511000" cy="778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6400800" y="2184480"/>
            <a:ext cx="2666880" cy="907920"/>
          </a:xfrm>
          <a:prstGeom prst="rect">
            <a:avLst/>
          </a:prstGeom>
          <a:solidFill>
            <a:srgbClr val="f0fa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6477120" y="1981080"/>
            <a:ext cx="2514240" cy="1080720"/>
            <a:chOff x="6477120" y="1981080"/>
            <a:chExt cx="2514240" cy="1080720"/>
          </a:xfrm>
        </p:grpSpPr>
        <p:sp>
          <p:nvSpPr>
            <p:cNvPr id="551" name=""/>
            <p:cNvSpPr/>
            <p:nvPr/>
          </p:nvSpPr>
          <p:spPr>
            <a:xfrm>
              <a:off x="6480360" y="2368440"/>
              <a:ext cx="2511000" cy="30096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477120" y="2283480"/>
              <a:ext cx="2511000" cy="77832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494760" y="2379600"/>
              <a:ext cx="2486520" cy="29952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80360" y="1981080"/>
              <a:ext cx="2511000" cy="778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76320" y="2184480"/>
            <a:ext cx="2666880" cy="907920"/>
          </a:xfrm>
          <a:prstGeom prst="rect">
            <a:avLst/>
          </a:prstGeom>
          <a:solidFill>
            <a:srgbClr val="f0fa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152280" y="1967040"/>
            <a:ext cx="2514240" cy="1080720"/>
            <a:chOff x="152280" y="1967040"/>
            <a:chExt cx="2514240" cy="1080720"/>
          </a:xfrm>
        </p:grpSpPr>
        <p:sp>
          <p:nvSpPr>
            <p:cNvPr id="557" name=""/>
            <p:cNvSpPr/>
            <p:nvPr/>
          </p:nvSpPr>
          <p:spPr>
            <a:xfrm>
              <a:off x="155520" y="2354400"/>
              <a:ext cx="2511000" cy="30096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52280" y="2269440"/>
              <a:ext cx="2511000" cy="77832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69920" y="2365560"/>
              <a:ext cx="2486520" cy="29952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55520" y="1967040"/>
              <a:ext cx="2511000" cy="778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6320" y="38160"/>
            <a:ext cx="8991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Patch Example: rename() With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굴림"/>
              </a:rPr>
              <a:t>WAF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227400" y="907920"/>
            <a:ext cx="2666880" cy="908280"/>
          </a:xfrm>
          <a:prstGeom prst="rect">
            <a:avLst/>
          </a:prstGeom>
          <a:solidFill>
            <a:srgbClr val="f0fa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3282480" y="652680"/>
            <a:ext cx="1183680" cy="1119600"/>
            <a:chOff x="3282480" y="652680"/>
            <a:chExt cx="1183680" cy="1119600"/>
          </a:xfrm>
        </p:grpSpPr>
        <p:sp>
          <p:nvSpPr>
            <p:cNvPr id="564" name=""/>
            <p:cNvSpPr/>
            <p:nvPr/>
          </p:nvSpPr>
          <p:spPr>
            <a:xfrm rot="21381600">
              <a:off x="3312000" y="1062360"/>
              <a:ext cx="1123920" cy="29520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21411600">
              <a:off x="3321720" y="973440"/>
              <a:ext cx="1123920" cy="76824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21381600">
              <a:off x="3318120" y="1072080"/>
              <a:ext cx="1112760" cy="29520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21411600">
              <a:off x="3302640" y="682560"/>
              <a:ext cx="1123560" cy="76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4779000" y="609480"/>
            <a:ext cx="116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er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817240" y="5378400"/>
            <a:ext cx="150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source d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151440" y="5378400"/>
            <a:ext cx="140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target d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540200" y="304812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ode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790680" y="2676600"/>
            <a:ext cx="185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plicate old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067760" y="3048120"/>
            <a:ext cx="175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block 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94640" y="2687760"/>
            <a:ext cx="185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plicate old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990360" y="1219320"/>
            <a:ext cx="236196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243320" y="1332000"/>
            <a:ext cx="236232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076640" y="1419120"/>
            <a:ext cx="2171880" cy="28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685440" y="2201040"/>
            <a:ext cx="308160" cy="291600"/>
            <a:chOff x="685440" y="2201040"/>
            <a:chExt cx="308160" cy="291600"/>
          </a:xfrm>
        </p:grpSpPr>
        <p:sp>
          <p:nvSpPr>
            <p:cNvPr id="579" name=""/>
            <p:cNvSpPr/>
            <p:nvPr/>
          </p:nvSpPr>
          <p:spPr>
            <a:xfrm rot="21381600">
              <a:off x="693000" y="2307600"/>
              <a:ext cx="292680" cy="7704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21411600">
              <a:off x="695520" y="2284560"/>
              <a:ext cx="292680" cy="20016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21381600">
              <a:off x="694440" y="2310480"/>
              <a:ext cx="289800" cy="7704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21411600">
              <a:off x="690480" y="2208960"/>
              <a:ext cx="292320" cy="200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4979160" y="4987800"/>
            <a:ext cx="185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plicate old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255040" y="4987800"/>
            <a:ext cx="185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plicate old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7848360" y="2277360"/>
            <a:ext cx="308160" cy="291600"/>
            <a:chOff x="7848360" y="2277360"/>
            <a:chExt cx="308160" cy="291600"/>
          </a:xfrm>
        </p:grpSpPr>
        <p:sp>
          <p:nvSpPr>
            <p:cNvPr id="586" name=""/>
            <p:cNvSpPr/>
            <p:nvPr/>
          </p:nvSpPr>
          <p:spPr>
            <a:xfrm rot="21381600">
              <a:off x="7855920" y="2383920"/>
              <a:ext cx="292680" cy="7704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21411600">
              <a:off x="7858440" y="2360880"/>
              <a:ext cx="292680" cy="20016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21381600">
              <a:off x="7857360" y="2386800"/>
              <a:ext cx="289800" cy="7704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21411600">
              <a:off x="7853400" y="2285280"/>
              <a:ext cx="292320" cy="200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2819160" y="4639680"/>
            <a:ext cx="308160" cy="291600"/>
            <a:chOff x="2819160" y="4639680"/>
            <a:chExt cx="308160" cy="291600"/>
          </a:xfrm>
        </p:grpSpPr>
        <p:sp>
          <p:nvSpPr>
            <p:cNvPr id="591" name=""/>
            <p:cNvSpPr/>
            <p:nvPr/>
          </p:nvSpPr>
          <p:spPr>
            <a:xfrm rot="21381600">
              <a:off x="2826720" y="4746240"/>
              <a:ext cx="292680" cy="7704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21411600">
              <a:off x="2829240" y="4723200"/>
              <a:ext cx="292680" cy="20016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21381600">
              <a:off x="2828160" y="4749120"/>
              <a:ext cx="289800" cy="7704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21411600">
              <a:off x="2824200" y="4647600"/>
              <a:ext cx="292320" cy="200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6016320" y="4639680"/>
            <a:ext cx="308160" cy="291600"/>
            <a:chOff x="6016320" y="4639680"/>
            <a:chExt cx="308160" cy="291600"/>
          </a:xfrm>
        </p:grpSpPr>
        <p:sp>
          <p:nvSpPr>
            <p:cNvPr id="596" name=""/>
            <p:cNvSpPr/>
            <p:nvPr/>
          </p:nvSpPr>
          <p:spPr>
            <a:xfrm rot="21381600">
              <a:off x="6023880" y="4746240"/>
              <a:ext cx="292680" cy="7704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21411600">
              <a:off x="6026400" y="4723200"/>
              <a:ext cx="292680" cy="20016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21381600">
              <a:off x="6025320" y="4749120"/>
              <a:ext cx="289800" cy="7704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21411600">
              <a:off x="6021360" y="4647600"/>
              <a:ext cx="292320" cy="200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4351320" y="1219320"/>
            <a:ext cx="350532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2369880" y="1332000"/>
            <a:ext cx="10666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2895120" y="1428840"/>
            <a:ext cx="762120" cy="2838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048120" y="1447920"/>
            <a:ext cx="761760" cy="3200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962520" y="1447920"/>
            <a:ext cx="2133360" cy="3200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866960" y="5715000"/>
            <a:ext cx="2666880" cy="907920"/>
          </a:xfrm>
          <a:prstGeom prst="rect">
            <a:avLst/>
          </a:prstGeom>
          <a:solidFill>
            <a:srgbClr val="f0fa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610160" y="5715000"/>
            <a:ext cx="2666880" cy="907920"/>
          </a:xfrm>
          <a:prstGeom prst="rect">
            <a:avLst/>
          </a:prstGeom>
          <a:solidFill>
            <a:srgbClr val="f0fa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913360" y="6324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ld source d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47560" y="6324480"/>
            <a:ext cx="13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ld target d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6320" y="3359160"/>
            <a:ext cx="2666880" cy="907920"/>
          </a:xfrm>
          <a:prstGeom prst="rect">
            <a:avLst/>
          </a:prstGeom>
          <a:solidFill>
            <a:srgbClr val="f0fa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400800" y="3359160"/>
            <a:ext cx="2666880" cy="907920"/>
          </a:xfrm>
          <a:prstGeom prst="rect">
            <a:avLst/>
          </a:prstGeom>
          <a:solidFill>
            <a:srgbClr val="f0fa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622280" y="3962520"/>
            <a:ext cx="150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ld inode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49840" y="3962520"/>
            <a:ext cx="164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ld block 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39FC-17E2-412A-B8EE-7681D93C50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2362320" y="1209600"/>
            <a:ext cx="4419360" cy="466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-data journaling fil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6320" y="38160"/>
            <a:ext cx="8991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ch Example: Loopback Block De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857680" y="2162520"/>
            <a:ext cx="3429000" cy="459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back block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362320" y="3110040"/>
            <a:ext cx="4419360" cy="466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-data journaling fil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7" name=""/>
          <p:cNvCxnSpPr>
            <a:stCxn id="613" idx="2"/>
            <a:endCxn id="615" idx="0"/>
          </p:cNvCxnSpPr>
          <p:nvPr/>
        </p:nvCxnSpPr>
        <p:spPr>
          <a:xfrm>
            <a:off x="4571640" y="1685520"/>
            <a:ext cx="1080" cy="459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8" name=""/>
          <p:cNvCxnSpPr>
            <a:stCxn id="615" idx="2"/>
            <a:endCxn id="616" idx="0"/>
          </p:cNvCxnSpPr>
          <p:nvPr/>
        </p:nvCxnSpPr>
        <p:spPr>
          <a:xfrm>
            <a:off x="4571640" y="2639520"/>
            <a:ext cx="1080" cy="461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9" name=""/>
          <p:cNvSpPr/>
          <p:nvPr/>
        </p:nvSpPr>
        <p:spPr>
          <a:xfrm>
            <a:off x="2857680" y="5018400"/>
            <a:ext cx="3429000" cy="459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A block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0" name=""/>
          <p:cNvCxnSpPr>
            <a:stCxn id="621" idx="2"/>
            <a:endCxn id="619" idx="0"/>
          </p:cNvCxnSpPr>
          <p:nvPr/>
        </p:nvCxnSpPr>
        <p:spPr>
          <a:xfrm>
            <a:off x="4571640" y="4539960"/>
            <a:ext cx="1080" cy="461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2" name=""/>
          <p:cNvSpPr/>
          <p:nvPr/>
        </p:nvSpPr>
        <p:spPr>
          <a:xfrm>
            <a:off x="373680" y="5791320"/>
            <a:ext cx="83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data journaling file system obeys file data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552760" y="4062600"/>
            <a:ext cx="4038480" cy="459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 cache block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3" name=""/>
          <p:cNvCxnSpPr>
            <a:stCxn id="616" idx="2"/>
            <a:endCxn id="621" idx="0"/>
          </p:cNvCxnSpPr>
          <p:nvPr/>
        </p:nvCxnSpPr>
        <p:spPr>
          <a:xfrm>
            <a:off x="4571640" y="3586320"/>
            <a:ext cx="1080" cy="459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4" name=""/>
          <p:cNvSpPr/>
          <p:nvPr/>
        </p:nvSpPr>
        <p:spPr>
          <a:xfrm>
            <a:off x="4528440" y="460368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lock de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528440" y="365760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lock de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529880" y="2698920"/>
            <a:ext cx="120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528440" y="175248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lock de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8" name=""/>
          <p:cNvCxnSpPr/>
          <p:nvPr/>
        </p:nvCxnSpPr>
        <p:spPr>
          <a:xfrm>
            <a:off x="4576320" y="739440"/>
            <a:ext cx="1080" cy="461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4534560" y="798480"/>
            <a:ext cx="120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6296040" y="2390760"/>
            <a:ext cx="457200" cy="0"/>
          </a:xfrm>
          <a:prstGeom prst="line">
            <a:avLst/>
          </a:prstGeom>
          <a:ln w="7632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727320" y="219060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ed by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AA8D-5700-45C6-B779-EFDDE05038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38160"/>
            <a:ext cx="8991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atherstitch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160" y="685800"/>
            <a:ext cx="90676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w architectu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constructing fil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eneralized depend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bs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s consistency code within fil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ca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fine consistency 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file systems to en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0C9A-67DB-4B64-9203-8B4C3A658B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1295280"/>
            <a:ext cx="4114800" cy="68580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610000" y="1409760"/>
            <a:ext cx="392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tch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group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381400" y="2895480"/>
            <a:ext cx="43797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Patches for fil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Patches for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Patch optim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5683-34C8-4DCF-BA6F-E8C9303966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36360" y="1981080"/>
            <a:ext cx="90680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-defined consistency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bases, Email, Vers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techniq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 buffer cache to write to disk immediately (fsync et 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 on underlying file system (e.g., ordered journal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6320" y="38160"/>
            <a:ext cx="8991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Application Consistenc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92C5-188D-4A9F-B072-1E3CEECBCF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36360" y="1523880"/>
            <a:ext cx="9068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 patches to applications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tch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write-before requirements among system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ed gzip, Subversion client, and UW IMAP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6320" y="38160"/>
            <a:ext cx="8991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chgrou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714560" y="329724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695840" y="2678040"/>
            <a:ext cx="11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nk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465000" y="29829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(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694040" y="3962520"/>
            <a:ext cx="13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ame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2803680" y="3092400"/>
            <a:ext cx="272880" cy="258480"/>
            <a:chOff x="2803680" y="3092400"/>
            <a:chExt cx="272880" cy="258480"/>
          </a:xfrm>
        </p:grpSpPr>
        <p:sp>
          <p:nvSpPr>
            <p:cNvPr id="645" name=""/>
            <p:cNvSpPr/>
            <p:nvPr/>
          </p:nvSpPr>
          <p:spPr>
            <a:xfrm rot="21381600">
              <a:off x="2810160" y="3186720"/>
              <a:ext cx="259200" cy="6804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21411600">
              <a:off x="2812320" y="3166560"/>
              <a:ext cx="259200" cy="17712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21381600">
              <a:off x="2811600" y="3189240"/>
              <a:ext cx="256680" cy="6804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21411600">
              <a:off x="2808000" y="3099240"/>
              <a:ext cx="259200" cy="177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3108240" y="3078360"/>
            <a:ext cx="273240" cy="257760"/>
            <a:chOff x="3108240" y="3078360"/>
            <a:chExt cx="273240" cy="257760"/>
          </a:xfrm>
        </p:grpSpPr>
        <p:sp>
          <p:nvSpPr>
            <p:cNvPr id="650" name=""/>
            <p:cNvSpPr/>
            <p:nvPr/>
          </p:nvSpPr>
          <p:spPr>
            <a:xfrm rot="21381600">
              <a:off x="3114720" y="3172680"/>
              <a:ext cx="259560" cy="6804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21411600">
              <a:off x="3116880" y="3152160"/>
              <a:ext cx="259560" cy="17676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21381600">
              <a:off x="3116160" y="3175200"/>
              <a:ext cx="257040" cy="6804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21411600">
              <a:off x="3112560" y="3085200"/>
              <a:ext cx="259560" cy="176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5985000" y="2792520"/>
            <a:ext cx="272880" cy="257760"/>
            <a:chOff x="5985000" y="2792520"/>
            <a:chExt cx="272880" cy="257760"/>
          </a:xfrm>
        </p:grpSpPr>
        <p:sp>
          <p:nvSpPr>
            <p:cNvPr id="655" name=""/>
            <p:cNvSpPr/>
            <p:nvPr/>
          </p:nvSpPr>
          <p:spPr>
            <a:xfrm rot="21381600">
              <a:off x="5991480" y="2886840"/>
              <a:ext cx="259200" cy="6804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21411600">
              <a:off x="5993640" y="2866320"/>
              <a:ext cx="259200" cy="17676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21381600">
              <a:off x="5992920" y="2889360"/>
              <a:ext cx="256680" cy="6804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21411600">
              <a:off x="5989320" y="2799360"/>
              <a:ext cx="259200" cy="176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6213600" y="2716200"/>
            <a:ext cx="272880" cy="258480"/>
            <a:chOff x="6213600" y="2716200"/>
            <a:chExt cx="272880" cy="258480"/>
          </a:xfrm>
        </p:grpSpPr>
        <p:sp>
          <p:nvSpPr>
            <p:cNvPr id="660" name=""/>
            <p:cNvSpPr/>
            <p:nvPr/>
          </p:nvSpPr>
          <p:spPr>
            <a:xfrm rot="21381600">
              <a:off x="6220080" y="2810520"/>
              <a:ext cx="259200" cy="6804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21411600">
              <a:off x="6222240" y="2790360"/>
              <a:ext cx="259200" cy="17712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21381600">
              <a:off x="6221520" y="2813040"/>
              <a:ext cx="256680" cy="6804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21411600">
              <a:off x="6217920" y="2723040"/>
              <a:ext cx="259200" cy="177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6108840" y="4059360"/>
            <a:ext cx="272880" cy="257760"/>
            <a:chOff x="6108840" y="4059360"/>
            <a:chExt cx="272880" cy="257760"/>
          </a:xfrm>
        </p:grpSpPr>
        <p:sp>
          <p:nvSpPr>
            <p:cNvPr id="665" name=""/>
            <p:cNvSpPr/>
            <p:nvPr/>
          </p:nvSpPr>
          <p:spPr>
            <a:xfrm rot="21381600">
              <a:off x="6115320" y="4153680"/>
              <a:ext cx="259200" cy="6804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21411600">
              <a:off x="6117480" y="4133160"/>
              <a:ext cx="259200" cy="17676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21381600">
              <a:off x="6116760" y="4156200"/>
              <a:ext cx="256680" cy="6804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rot="21411600">
              <a:off x="6113160" y="4066200"/>
              <a:ext cx="259200" cy="176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"/>
          <p:cNvSpPr/>
          <p:nvPr/>
        </p:nvSpPr>
        <p:spPr>
          <a:xfrm>
            <a:off x="2708280" y="2971800"/>
            <a:ext cx="762120" cy="4572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867280" y="2666880"/>
            <a:ext cx="762120" cy="4572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019920" y="3962520"/>
            <a:ext cx="457200" cy="4572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6105600" y="3430440"/>
            <a:ext cx="272880" cy="258480"/>
            <a:chOff x="6105600" y="3430440"/>
            <a:chExt cx="272880" cy="258480"/>
          </a:xfrm>
        </p:grpSpPr>
        <p:sp>
          <p:nvSpPr>
            <p:cNvPr id="673" name=""/>
            <p:cNvSpPr/>
            <p:nvPr/>
          </p:nvSpPr>
          <p:spPr>
            <a:xfrm rot="21381600">
              <a:off x="6112080" y="3524760"/>
              <a:ext cx="259200" cy="6804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21411600">
              <a:off x="6114240" y="3504600"/>
              <a:ext cx="259200" cy="17712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21381600">
              <a:off x="6113520" y="3527280"/>
              <a:ext cx="256680" cy="6804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21411600">
              <a:off x="6109920" y="3437280"/>
              <a:ext cx="259200" cy="177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6019920" y="3324240"/>
            <a:ext cx="457200" cy="4572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4419720" y="2914560"/>
            <a:ext cx="323640" cy="238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419720" y="3267000"/>
            <a:ext cx="323640" cy="238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H="1" rot="20679600">
            <a:off x="829440" y="2960280"/>
            <a:ext cx="5721480" cy="132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40" y="5775"/>
                </a:moveTo>
                <a:arcTo wR="10800" hR="10800" stAng="-9136176" swAng="3961131"/>
                <a:lnTo>
                  <a:pt x="10800" y="10800"/>
                </a:lnTo>
                <a:close/>
              </a:path>
              <a:path fill="none" w="21600" h="21600">
                <a:moveTo>
                  <a:pt x="1240" y="5775"/>
                </a:moveTo>
                <a:arcTo wR="10800" hR="10800" stAng="-9136176" swAng="3961131"/>
              </a:path>
            </a:pathLst>
          </a:custGeom>
          <a:noFill/>
          <a:ln w="381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H="1" flipV="1" rot="920400">
            <a:off x="586440" y="2030040"/>
            <a:ext cx="5995080" cy="146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8" y="6310"/>
                </a:moveTo>
                <a:arcTo wR="10800" hR="10800" stAng="-9325901" swAng="4150856"/>
                <a:lnTo>
                  <a:pt x="10800" y="10800"/>
                </a:lnTo>
                <a:close/>
              </a:path>
              <a:path fill="none" w="21600" h="21600">
                <a:moveTo>
                  <a:pt x="978" y="6310"/>
                </a:moveTo>
                <a:arcTo wR="10800" hR="10800" stAng="-9325901" swAng="4150856"/>
              </a:path>
            </a:pathLst>
          </a:custGeom>
          <a:noFill/>
          <a:ln w="381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A6C3-BB1F-4EDA-B358-938EB1A55F4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76320" y="38160"/>
            <a:ext cx="8991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chgrou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ps for UW IM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14480" y="1050840"/>
            <a:ext cx="4381200" cy="5045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1"/>
          <a:srcRect l="30287" t="16002" r="21144" b="16190"/>
          <a:stretch/>
        </p:blipFill>
        <p:spPr>
          <a:xfrm>
            <a:off x="297000" y="1127160"/>
            <a:ext cx="4054320" cy="4245120"/>
          </a:xfrm>
          <a:prstGeom prst="rect">
            <a:avLst/>
          </a:prstGeom>
          <a:ln w="0">
            <a:noFill/>
          </a:ln>
        </p:spPr>
      </p:pic>
      <p:grpSp>
        <p:nvGrpSpPr>
          <p:cNvPr id="685" name=""/>
          <p:cNvGrpSpPr/>
          <p:nvPr/>
        </p:nvGrpSpPr>
        <p:grpSpPr>
          <a:xfrm>
            <a:off x="3195720" y="1865160"/>
            <a:ext cx="795240" cy="322200"/>
            <a:chOff x="3195720" y="1865160"/>
            <a:chExt cx="795240" cy="322200"/>
          </a:xfrm>
        </p:grpSpPr>
        <p:sp>
          <p:nvSpPr>
            <p:cNvPr id="686" name=""/>
            <p:cNvSpPr/>
            <p:nvPr/>
          </p:nvSpPr>
          <p:spPr>
            <a:xfrm>
              <a:off x="3279600" y="1941480"/>
              <a:ext cx="6858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195720" y="1865160"/>
              <a:ext cx="7952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Lucida Console"/>
                </a:rPr>
                <a:t>fsyn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3193920" y="2744640"/>
            <a:ext cx="795240" cy="322200"/>
            <a:chOff x="3193920" y="2744640"/>
            <a:chExt cx="795240" cy="322200"/>
          </a:xfrm>
        </p:grpSpPr>
        <p:sp>
          <p:nvSpPr>
            <p:cNvPr id="689" name=""/>
            <p:cNvSpPr/>
            <p:nvPr/>
          </p:nvSpPr>
          <p:spPr>
            <a:xfrm>
              <a:off x="3277800" y="2820960"/>
              <a:ext cx="6858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193920" y="2744640"/>
              <a:ext cx="7952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Lucida Console"/>
                </a:rPr>
                <a:t>fsyn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3195720" y="3630600"/>
            <a:ext cx="795240" cy="322200"/>
            <a:chOff x="3195720" y="3630600"/>
            <a:chExt cx="795240" cy="322200"/>
          </a:xfrm>
        </p:grpSpPr>
        <p:sp>
          <p:nvSpPr>
            <p:cNvPr id="692" name=""/>
            <p:cNvSpPr/>
            <p:nvPr/>
          </p:nvSpPr>
          <p:spPr>
            <a:xfrm>
              <a:off x="3279600" y="3706920"/>
              <a:ext cx="6858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95720" y="3630600"/>
              <a:ext cx="7952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Lucida Console"/>
                </a:rPr>
                <a:t>fsyn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4648320" y="1050840"/>
            <a:ext cx="4381560" cy="5045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2"/>
          <a:srcRect l="29714" t="16762" r="19999" b="13904"/>
          <a:stretch/>
        </p:blipFill>
        <p:spPr>
          <a:xfrm>
            <a:off x="4818240" y="1120680"/>
            <a:ext cx="4198680" cy="4343400"/>
          </a:xfrm>
          <a:prstGeom prst="rect">
            <a:avLst/>
          </a:prstGeom>
          <a:ln w="0">
            <a:noFill/>
          </a:ln>
        </p:spPr>
      </p:pic>
      <p:grpSp>
        <p:nvGrpSpPr>
          <p:cNvPr id="696" name=""/>
          <p:cNvGrpSpPr/>
          <p:nvPr/>
        </p:nvGrpSpPr>
        <p:grpSpPr>
          <a:xfrm>
            <a:off x="5340240" y="1946160"/>
            <a:ext cx="1218960" cy="322200"/>
            <a:chOff x="5340240" y="1946160"/>
            <a:chExt cx="1218960" cy="322200"/>
          </a:xfrm>
        </p:grpSpPr>
        <p:sp>
          <p:nvSpPr>
            <p:cNvPr id="697" name=""/>
            <p:cNvSpPr/>
            <p:nvPr/>
          </p:nvSpPr>
          <p:spPr>
            <a:xfrm>
              <a:off x="5468760" y="2022480"/>
              <a:ext cx="10512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340240" y="1946160"/>
              <a:ext cx="12189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Lucida Console"/>
                </a:rPr>
                <a:t>pg_depen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5340240" y="2832120"/>
            <a:ext cx="1218960" cy="322200"/>
            <a:chOff x="5340240" y="2832120"/>
            <a:chExt cx="1218960" cy="322200"/>
          </a:xfrm>
        </p:grpSpPr>
        <p:sp>
          <p:nvSpPr>
            <p:cNvPr id="700" name=""/>
            <p:cNvSpPr/>
            <p:nvPr/>
          </p:nvSpPr>
          <p:spPr>
            <a:xfrm>
              <a:off x="5468760" y="2908440"/>
              <a:ext cx="10512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340240" y="2832120"/>
              <a:ext cx="12189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Lucida Console"/>
                </a:rPr>
                <a:t>pg_depen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1023840" y="5699160"/>
            <a:ext cx="27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modified UW I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557680" y="5699160"/>
            <a:ext cx="277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chgroup UW I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992D-4155-4BF0-9C94-D51AED64F6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600200" y="1295280"/>
            <a:ext cx="5943600" cy="68580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724040" y="1409760"/>
            <a:ext cx="569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tch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Optimiza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381400" y="2895480"/>
            <a:ext cx="43797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Patches for fil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Patches for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Patch optim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84FC-13D7-448F-87E4-21541FE7840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76320" y="38160"/>
            <a:ext cx="8991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ch Optim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rcRect l="26572" t="11430" r="24858" b="4763"/>
          <a:stretch/>
        </p:blipFill>
        <p:spPr>
          <a:xfrm>
            <a:off x="2335320" y="685800"/>
            <a:ext cx="4475160" cy="579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F437-B692-4666-BC54-0EC314DFF0C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39600" y="1143000"/>
            <a:ext cx="90680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ur initial implement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ch manipulation time was the system bottle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ches consumed more memory than the buffer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system agnostic patch optimizations to redu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o memory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patches and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ed Featherstitch is not much slower than Linux ext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76320" y="38160"/>
            <a:ext cx="8991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ch Optim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1"/>
          <a:srcRect l="26572" t="11430" r="24858" b="4763"/>
          <a:stretch/>
        </p:blipFill>
        <p:spPr>
          <a:xfrm>
            <a:off x="7983360" y="457200"/>
            <a:ext cx="106056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9C09-4192-4796-A4E0-7D865FFDD3B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/>
          </p:nvPr>
        </p:nvSpPr>
        <p:spPr>
          <a:xfrm>
            <a:off x="39240" y="1828800"/>
            <a:ext cx="90680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memory overhead: unused (!) undo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e away unused undo data alloc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’t detect “unused” until it’s too 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 the patch API to reason about the fu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6320" y="38160"/>
            <a:ext cx="8991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timizing Undo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CE32-4361-4C8A-828A-A486EA5CAE7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/>
          </p:nvPr>
        </p:nvSpPr>
        <p:spPr>
          <a:xfrm>
            <a:off x="228600" y="91404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or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patch that must be reverted to make progress mu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uce a block-level cyc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297800" y="237816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ces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title"/>
          </p:nvPr>
        </p:nvSpPr>
        <p:spPr>
          <a:xfrm>
            <a:off x="76320" y="38160"/>
            <a:ext cx="8991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timizing Undo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rot="5400000">
            <a:off x="4213440" y="2648520"/>
            <a:ext cx="1828800" cy="1135080"/>
          </a:xfrm>
          <a:prstGeom prst="rect">
            <a:avLst/>
          </a:prstGeom>
          <a:solidFill>
            <a:srgbClr val="ffe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rot="5400000">
            <a:off x="2990160" y="2644560"/>
            <a:ext cx="1828800" cy="1143000"/>
          </a:xfrm>
          <a:prstGeom prst="rect">
            <a:avLst/>
          </a:prstGeom>
          <a:solidFill>
            <a:srgbClr val="ccec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3355560" y="3137760"/>
            <a:ext cx="1045080" cy="987840"/>
            <a:chOff x="3355560" y="3137760"/>
            <a:chExt cx="1045080" cy="987840"/>
          </a:xfrm>
        </p:grpSpPr>
        <p:sp>
          <p:nvSpPr>
            <p:cNvPr id="721" name=""/>
            <p:cNvSpPr/>
            <p:nvPr/>
          </p:nvSpPr>
          <p:spPr>
            <a:xfrm rot="21381600">
              <a:off x="3381480" y="3499200"/>
              <a:ext cx="992520" cy="26064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21411600">
              <a:off x="3390120" y="3420720"/>
              <a:ext cx="992520" cy="67788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21381600">
              <a:off x="3387240" y="3508200"/>
              <a:ext cx="982800" cy="26064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rot="21411600">
              <a:off x="3373200" y="3164040"/>
              <a:ext cx="992160" cy="677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"/>
          <p:cNvSpPr/>
          <p:nvPr/>
        </p:nvSpPr>
        <p:spPr>
          <a:xfrm>
            <a:off x="3723840" y="32986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3355560" y="2180520"/>
            <a:ext cx="1045080" cy="987840"/>
            <a:chOff x="3355560" y="2180520"/>
            <a:chExt cx="1045080" cy="987840"/>
          </a:xfrm>
        </p:grpSpPr>
        <p:sp>
          <p:nvSpPr>
            <p:cNvPr id="727" name=""/>
            <p:cNvSpPr/>
            <p:nvPr/>
          </p:nvSpPr>
          <p:spPr>
            <a:xfrm rot="21381600">
              <a:off x="3381480" y="2541960"/>
              <a:ext cx="992520" cy="26064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21411600">
              <a:off x="3390120" y="2463480"/>
              <a:ext cx="992520" cy="67788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21381600">
              <a:off x="3387240" y="2550960"/>
              <a:ext cx="982800" cy="26064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21411600">
              <a:off x="3373200" y="2206800"/>
              <a:ext cx="992160" cy="677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3716280" y="2346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4574880" y="2577600"/>
            <a:ext cx="1044720" cy="988200"/>
            <a:chOff x="4574880" y="2577600"/>
            <a:chExt cx="1044720" cy="988200"/>
          </a:xfrm>
        </p:grpSpPr>
        <p:sp>
          <p:nvSpPr>
            <p:cNvPr id="733" name=""/>
            <p:cNvSpPr/>
            <p:nvPr/>
          </p:nvSpPr>
          <p:spPr>
            <a:xfrm rot="21381600">
              <a:off x="4600800" y="2939040"/>
              <a:ext cx="992160" cy="26064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21411600">
              <a:off x="4609440" y="2860920"/>
              <a:ext cx="992160" cy="67788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21381600">
              <a:off x="4606560" y="2948040"/>
              <a:ext cx="982440" cy="26064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21411600">
              <a:off x="4592520" y="2603880"/>
              <a:ext cx="992160" cy="677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"/>
          <p:cNvSpPr/>
          <p:nvPr/>
        </p:nvSpPr>
        <p:spPr>
          <a:xfrm>
            <a:off x="4920480" y="27576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4362480" y="3164040"/>
            <a:ext cx="342720" cy="322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838600" y="2573280"/>
            <a:ext cx="533160" cy="0"/>
          </a:xfrm>
          <a:prstGeom prst="line">
            <a:avLst/>
          </a:prstGeom>
          <a:ln w="7632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316400" y="2666880"/>
            <a:ext cx="28908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981080" y="4403880"/>
            <a:ext cx="5105520" cy="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rot="5400000">
            <a:off x="4216680" y="4995000"/>
            <a:ext cx="1828800" cy="1135080"/>
          </a:xfrm>
          <a:prstGeom prst="rect">
            <a:avLst/>
          </a:prstGeom>
          <a:solidFill>
            <a:srgbClr val="ffe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rot="5400000">
            <a:off x="2993400" y="4991040"/>
            <a:ext cx="1828800" cy="1143000"/>
          </a:xfrm>
          <a:prstGeom prst="rect">
            <a:avLst/>
          </a:prstGeom>
          <a:solidFill>
            <a:srgbClr val="ccec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368960" y="5034600"/>
            <a:ext cx="374400" cy="262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4292640" y="5720400"/>
            <a:ext cx="374400" cy="262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CB0F-8984-42CE-A97F-98A2AEF4E81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/>
          </p:nvPr>
        </p:nvSpPr>
        <p:spPr>
          <a:xfrm>
            <a:off x="39240" y="68544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ct block-level cycle inducers when alloca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 the patch API: supply all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patch creati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any patch that will need to be reve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induce a block-level cycle at cre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ll a patch with undo data omitted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rd pat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 pat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its undo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933640" y="5388120"/>
            <a:ext cx="3200400" cy="1089000"/>
          </a:xfrm>
          <a:prstGeom prst="rect">
            <a:avLst/>
          </a:prstGeom>
          <a:solidFill>
            <a:srgbClr val="f0fa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476400" y="56674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 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4612680" y="5430240"/>
            <a:ext cx="1340640" cy="955080"/>
            <a:chOff x="4612680" y="5430240"/>
            <a:chExt cx="1340640" cy="955080"/>
          </a:xfrm>
        </p:grpSpPr>
        <p:sp>
          <p:nvSpPr>
            <p:cNvPr id="750" name=""/>
            <p:cNvSpPr/>
            <p:nvPr/>
          </p:nvSpPr>
          <p:spPr>
            <a:xfrm rot="21411000">
              <a:off x="4635720" y="5464800"/>
              <a:ext cx="1293840" cy="885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rot="5400000">
              <a:off x="4613400" y="5877720"/>
              <a:ext cx="47160" cy="4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2" y="2"/>
                  </a:moveTo>
                  <a:arcTo wR="10800" hR="10800" stAng="-5341922" swAng="107692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2" y="2"/>
                  </a:moveTo>
                  <a:arcTo wR="10800" hR="10800" stAng="-5341922" swAng="10769207"/>
                </a:path>
              </a:pathLst>
            </a:cu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16200000">
              <a:off x="5906880" y="5886720"/>
              <a:ext cx="47160" cy="4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2" y="2"/>
                  </a:moveTo>
                  <a:arcTo wR="10800" hR="10800" stAng="-5341922" swAng="107692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2" y="2"/>
                  </a:moveTo>
                  <a:arcTo wR="10800" hR="10800" stAng="-5341922" swAng="10769207"/>
                </a:path>
              </a:pathLst>
            </a:cu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293800" y="6329160"/>
              <a:ext cx="47160" cy="4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2" y="2"/>
                  </a:moveTo>
                  <a:arcTo wR="10800" hR="10800" stAng="-5341922" swAng="107692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2" y="2"/>
                  </a:moveTo>
                  <a:arcTo wR="10800" hR="10800" stAng="-5341922" swAng="10769207"/>
                </a:path>
              </a:pathLst>
            </a:cu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5248440" y="5443560"/>
              <a:ext cx="47160" cy="40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2" y="2"/>
                  </a:moveTo>
                  <a:arcTo wR="10800" hR="10800" stAng="-5341922" swAng="107692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2" y="2"/>
                  </a:moveTo>
                  <a:arcTo wR="10800" hR="10800" stAng="-5341922" swAng="10769207"/>
                </a:path>
              </a:pathLst>
            </a:cu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 rot="18900000">
              <a:off x="4812840" y="5583240"/>
              <a:ext cx="47520" cy="40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2" y="2"/>
                  </a:moveTo>
                  <a:arcTo wR="10800" hR="10800" stAng="-5341922" swAng="107692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2" y="2"/>
                  </a:moveTo>
                  <a:arcTo wR="10800" hR="10800" stAng="-5341922" swAng="10769207"/>
                </a:path>
              </a:pathLst>
            </a:cu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18900000">
              <a:off x="5716440" y="6186960"/>
              <a:ext cx="47160" cy="4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2" y="2"/>
                  </a:moveTo>
                  <a:arcTo wR="10800" hR="10800" stAng="-5341922" swAng="107692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2" y="2"/>
                  </a:moveTo>
                  <a:arcTo wR="10800" hR="10800" stAng="-5341922" swAng="10769207"/>
                </a:path>
              </a:pathLst>
            </a:cu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 rot="2700000">
              <a:off x="5721480" y="5567040"/>
              <a:ext cx="47520" cy="4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2" y="2"/>
                  </a:moveTo>
                  <a:arcTo wR="10800" hR="10800" stAng="-5341922" swAng="107692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2" y="2"/>
                  </a:moveTo>
                  <a:arcTo wR="10800" hR="10800" stAng="-5341922" swAng="10769207"/>
                </a:path>
              </a:pathLst>
            </a:cu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 rot="13500000">
              <a:off x="4794840" y="6206760"/>
              <a:ext cx="47520" cy="4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2" y="2"/>
                  </a:moveTo>
                  <a:arcTo wR="10800" hR="10800" stAng="-5341922" swAng="107692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2" y="2"/>
                  </a:moveTo>
                  <a:arcTo wR="10800" hR="10800" stAng="-5341922" swAng="10769207"/>
                </a:path>
              </a:pathLst>
            </a:cu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 rot="20280000">
              <a:off x="5537880" y="6278400"/>
              <a:ext cx="47160" cy="4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2" y="2"/>
                  </a:moveTo>
                  <a:arcTo wR="10800" hR="10800" stAng="-5341922" swAng="107692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2" y="2"/>
                  </a:moveTo>
                  <a:arcTo wR="10800" hR="10800" stAng="-5341922" swAng="10769207"/>
                </a:path>
              </a:pathLst>
            </a:cu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1320000">
              <a:off x="5012280" y="6305040"/>
              <a:ext cx="47160" cy="4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2" y="2"/>
                  </a:moveTo>
                  <a:arcTo wR="10800" hR="10800" stAng="-5341922" swAng="107692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2" y="2"/>
                  </a:moveTo>
                  <a:arcTo wR="10800" hR="10800" stAng="-5341922" swAng="10769207"/>
                </a:path>
              </a:pathLst>
            </a:cu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 rot="14880000">
              <a:off x="4660560" y="6074280"/>
              <a:ext cx="47160" cy="4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2" y="2"/>
                  </a:moveTo>
                  <a:arcTo wR="10800" hR="10800" stAng="-5341922" swAng="107692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2" y="2"/>
                  </a:moveTo>
                  <a:arcTo wR="10800" hR="10800" stAng="-5341922" swAng="10769207"/>
                </a:path>
              </a:pathLst>
            </a:cu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rot="6720000">
              <a:off x="4671720" y="5715360"/>
              <a:ext cx="46440" cy="4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2" y="2"/>
                  </a:moveTo>
                  <a:arcTo wR="10800" hR="10800" stAng="-5341922" swAng="107692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2" y="2"/>
                  </a:moveTo>
                  <a:arcTo wR="10800" hR="10800" stAng="-5341922" swAng="10769207"/>
                </a:path>
              </a:pathLst>
            </a:cu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 rot="20280000">
              <a:off x="5010840" y="5487480"/>
              <a:ext cx="47160" cy="4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2" y="2"/>
                  </a:moveTo>
                  <a:arcTo wR="10800" hR="10800" stAng="-5341922" swAng="107692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2" y="2"/>
                  </a:moveTo>
                  <a:arcTo wR="10800" hR="10800" stAng="-5341922" swAng="10769207"/>
                </a:path>
              </a:pathLst>
            </a:cu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rot="12120000">
              <a:off x="5492880" y="5469120"/>
              <a:ext cx="47160" cy="4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2" y="2"/>
                  </a:moveTo>
                  <a:arcTo wR="10800" hR="10800" stAng="-5341922" swAng="107692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2" y="2"/>
                  </a:moveTo>
                  <a:arcTo wR="10800" hR="10800" stAng="-5341922" swAng="10769207"/>
                </a:path>
              </a:pathLst>
            </a:cu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 rot="4080000">
              <a:off x="5856120" y="5700600"/>
              <a:ext cx="47160" cy="4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2" y="2"/>
                  </a:moveTo>
                  <a:arcTo wR="10800" hR="10800" stAng="-5341922" swAng="107692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2" y="2"/>
                  </a:moveTo>
                  <a:arcTo wR="10800" hR="10800" stAng="-5341922" swAng="10769207"/>
                </a:path>
              </a:pathLst>
            </a:cu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17520000">
              <a:off x="5840280" y="6065640"/>
              <a:ext cx="47160" cy="4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2" y="2"/>
                  </a:moveTo>
                  <a:arcTo wR="10800" hR="10800" stAng="-5341922" swAng="107692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2" y="2"/>
                  </a:moveTo>
                  <a:arcTo wR="10800" hR="10800" stAng="-5341922" swAng="10769207"/>
                </a:path>
              </a:pathLst>
            </a:cu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"/>
          <p:cNvSpPr/>
          <p:nvPr/>
        </p:nvSpPr>
        <p:spPr>
          <a:xfrm flipH="1">
            <a:off x="5981760" y="5867280"/>
            <a:ext cx="533520" cy="0"/>
          </a:xfrm>
          <a:prstGeom prst="line">
            <a:avLst/>
          </a:prstGeom>
          <a:ln w="7632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-1756440" y="5806080"/>
            <a:ext cx="1499760" cy="1068480"/>
            <a:chOff x="-1756440" y="5806080"/>
            <a:chExt cx="1499760" cy="1068480"/>
          </a:xfrm>
        </p:grpSpPr>
        <p:sp>
          <p:nvSpPr>
            <p:cNvPr id="769" name=""/>
            <p:cNvSpPr/>
            <p:nvPr/>
          </p:nvSpPr>
          <p:spPr>
            <a:xfrm rot="21411000">
              <a:off x="-1730160" y="5844960"/>
              <a:ext cx="1447560" cy="99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5400000">
              <a:off x="-1755720" y="6306120"/>
              <a:ext cx="52920" cy="4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2" y="2"/>
                  </a:moveTo>
                  <a:arcTo wR="10800" hR="10800" stAng="-5341922" swAng="107692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2" y="2"/>
                  </a:moveTo>
                  <a:arcTo wR="10800" hR="10800" stAng="-5341922" swAng="10769207"/>
                </a:path>
              </a:pathLst>
            </a:cu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rot="16200000">
              <a:off x="-307800" y="6317280"/>
              <a:ext cx="52920" cy="4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2" y="2"/>
                  </a:moveTo>
                  <a:arcTo wR="10800" hR="10800" stAng="-5341922" swAng="107692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2" y="2"/>
                  </a:moveTo>
                  <a:arcTo wR="10800" hR="10800" stAng="-5341922" swAng="10769207"/>
                </a:path>
              </a:pathLst>
            </a:cu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-993960" y="6811560"/>
              <a:ext cx="52200" cy="4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2" y="2"/>
                  </a:moveTo>
                  <a:arcTo wR="10800" hR="10800" stAng="-5341922" swAng="107692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2" y="2"/>
                  </a:moveTo>
                  <a:arcTo wR="10800" hR="10800" stAng="-5341922" swAng="10769207"/>
                </a:path>
              </a:pathLst>
            </a:cu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-1045080" y="5821200"/>
              <a:ext cx="52200" cy="4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2" y="2"/>
                  </a:moveTo>
                  <a:arcTo wR="10800" hR="10800" stAng="-5341922" swAng="107692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2" y="2"/>
                  </a:moveTo>
                  <a:arcTo wR="10800" hR="10800" stAng="-5341922" swAng="10769207"/>
                </a:path>
              </a:pathLst>
            </a:cu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 rot="18900000">
              <a:off x="-1532160" y="5977080"/>
              <a:ext cx="52920" cy="4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2" y="2"/>
                  </a:moveTo>
                  <a:arcTo wR="10800" hR="10800" stAng="-5341922" swAng="107692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2" y="2"/>
                  </a:moveTo>
                  <a:arcTo wR="10800" hR="10800" stAng="-5341922" swAng="10769207"/>
                </a:path>
              </a:pathLst>
            </a:cu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18900000">
              <a:off x="-520200" y="6652800"/>
              <a:ext cx="52200" cy="4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2" y="2"/>
                  </a:moveTo>
                  <a:arcTo wR="10800" hR="10800" stAng="-5341922" swAng="107692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2" y="2"/>
                  </a:moveTo>
                  <a:arcTo wR="10800" hR="10800" stAng="-5341922" swAng="10769207"/>
                </a:path>
              </a:pathLst>
            </a:cu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 rot="2700000">
              <a:off x="-514800" y="5960160"/>
              <a:ext cx="52560" cy="4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2" y="2"/>
                  </a:moveTo>
                  <a:arcTo wR="10800" hR="10800" stAng="-5341922" swAng="107692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2" y="2"/>
                  </a:moveTo>
                  <a:arcTo wR="10800" hR="10800" stAng="-5341922" swAng="10769207"/>
                </a:path>
              </a:pathLst>
            </a:cu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 rot="13500000">
              <a:off x="-1550880" y="6674040"/>
              <a:ext cx="52560" cy="4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2" y="2"/>
                  </a:moveTo>
                  <a:arcTo wR="10800" hR="10800" stAng="-5341922" swAng="107692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2" y="2"/>
                  </a:moveTo>
                  <a:arcTo wR="10800" hR="10800" stAng="-5341922" swAng="10769207"/>
                </a:path>
              </a:pathLst>
            </a:cu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 rot="20280000">
              <a:off x="-719640" y="6754320"/>
              <a:ext cx="51840" cy="4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2" y="2"/>
                  </a:moveTo>
                  <a:arcTo wR="10800" hR="10800" stAng="-5341922" swAng="107692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2" y="2"/>
                  </a:moveTo>
                  <a:arcTo wR="10800" hR="10800" stAng="-5341922" swAng="10769207"/>
                </a:path>
              </a:pathLst>
            </a:cu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1320000">
              <a:off x="-1308960" y="6784200"/>
              <a:ext cx="52200" cy="4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2" y="2"/>
                  </a:moveTo>
                  <a:arcTo wR="10800" hR="10800" stAng="-5341922" swAng="107692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2" y="2"/>
                  </a:moveTo>
                  <a:arcTo wR="10800" hR="10800" stAng="-5341922" swAng="10769207"/>
                </a:path>
              </a:pathLst>
            </a:cu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 rot="14880000">
              <a:off x="-1701720" y="6526440"/>
              <a:ext cx="52920" cy="4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2" y="2"/>
                  </a:moveTo>
                  <a:arcTo wR="10800" hR="10800" stAng="-5341922" swAng="107692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2" y="2"/>
                  </a:moveTo>
                  <a:arcTo wR="10800" hR="10800" stAng="-5341922" swAng="10769207"/>
                </a:path>
              </a:pathLst>
            </a:cu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rot="6720000">
              <a:off x="-1690560" y="6124680"/>
              <a:ext cx="52200" cy="4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2" y="2"/>
                  </a:moveTo>
                  <a:arcTo wR="10800" hR="10800" stAng="-5341922" swAng="107692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2" y="2"/>
                  </a:moveTo>
                  <a:arcTo wR="10800" hR="10800" stAng="-5341922" swAng="10769207"/>
                </a:path>
              </a:pathLst>
            </a:cu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 rot="20280000">
              <a:off x="-1310760" y="5869800"/>
              <a:ext cx="51840" cy="4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2" y="2"/>
                  </a:moveTo>
                  <a:arcTo wR="10800" hR="10800" stAng="-5341922" swAng="107692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2" y="2"/>
                  </a:moveTo>
                  <a:arcTo wR="10800" hR="10800" stAng="-5341922" swAng="10769207"/>
                </a:path>
              </a:pathLst>
            </a:cu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rot="12120000">
              <a:off x="-770040" y="5850000"/>
              <a:ext cx="52200" cy="4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2" y="2"/>
                  </a:moveTo>
                  <a:arcTo wR="10800" hR="10800" stAng="-5341922" swAng="107692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2" y="2"/>
                  </a:moveTo>
                  <a:arcTo wR="10800" hR="10800" stAng="-5341922" swAng="10769207"/>
                </a:path>
              </a:pathLst>
            </a:cu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 rot="4080000">
              <a:off x="-365040" y="6109200"/>
              <a:ext cx="52920" cy="4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2" y="2"/>
                  </a:moveTo>
                  <a:arcTo wR="10800" hR="10800" stAng="-5341922" swAng="107692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2" y="2"/>
                  </a:moveTo>
                  <a:arcTo wR="10800" hR="10800" stAng="-5341922" swAng="10769207"/>
                </a:path>
              </a:pathLst>
            </a:cu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rot="17520000">
              <a:off x="-382680" y="6518160"/>
              <a:ext cx="52920" cy="4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2" y="2"/>
                  </a:moveTo>
                  <a:arcTo wR="10800" hR="10800" stAng="-5341922" swAng="107692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2" y="2"/>
                  </a:moveTo>
                  <a:arcTo wR="10800" hR="10800" stAng="-5341922" swAng="10769207"/>
                </a:path>
              </a:pathLst>
            </a:cu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PlaceHolder 2"/>
          <p:cNvSpPr>
            <a:spLocks noGrp="1"/>
          </p:cNvSpPr>
          <p:nvPr>
            <p:ph type="title"/>
          </p:nvPr>
        </p:nvSpPr>
        <p:spPr>
          <a:xfrm>
            <a:off x="76320" y="38160"/>
            <a:ext cx="8991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rd Patch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3085560" y="5118120"/>
            <a:ext cx="1372680" cy="1298520"/>
            <a:chOff x="3085560" y="5118120"/>
            <a:chExt cx="1372680" cy="1298520"/>
          </a:xfrm>
        </p:grpSpPr>
        <p:sp>
          <p:nvSpPr>
            <p:cNvPr id="788" name=""/>
            <p:cNvSpPr/>
            <p:nvPr/>
          </p:nvSpPr>
          <p:spPr>
            <a:xfrm rot="21381600">
              <a:off x="3120480" y="5592960"/>
              <a:ext cx="1303200" cy="34236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21411600">
              <a:off x="3131280" y="5490360"/>
              <a:ext cx="1303200" cy="89100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21381600">
              <a:off x="3127320" y="5604480"/>
              <a:ext cx="1290240" cy="34236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rot="21411600">
              <a:off x="3108960" y="5153040"/>
              <a:ext cx="1302840" cy="891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1373040" y="54388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 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552760" y="5638680"/>
            <a:ext cx="533520" cy="0"/>
          </a:xfrm>
          <a:prstGeom prst="line">
            <a:avLst/>
          </a:prstGeom>
          <a:ln w="7632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rot="5400000">
            <a:off x="8200440" y="2693880"/>
            <a:ext cx="914400" cy="533160"/>
          </a:xfrm>
          <a:prstGeom prst="rect">
            <a:avLst/>
          </a:prstGeom>
          <a:solidFill>
            <a:srgbClr val="ffe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8421480" y="2739600"/>
            <a:ext cx="463680" cy="438840"/>
            <a:chOff x="8421480" y="2739600"/>
            <a:chExt cx="463680" cy="438840"/>
          </a:xfrm>
        </p:grpSpPr>
        <p:sp>
          <p:nvSpPr>
            <p:cNvPr id="796" name=""/>
            <p:cNvSpPr/>
            <p:nvPr/>
          </p:nvSpPr>
          <p:spPr>
            <a:xfrm rot="21381600">
              <a:off x="8432640" y="2899800"/>
              <a:ext cx="440280" cy="11556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rot="21411600">
              <a:off x="8436960" y="2865240"/>
              <a:ext cx="440280" cy="30096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rot="21381600">
              <a:off x="8435520" y="2904120"/>
              <a:ext cx="435960" cy="11556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rot="21411600">
              <a:off x="8429400" y="2751120"/>
              <a:ext cx="440280" cy="300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8484480" y="27241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rot="5400000">
            <a:off x="7580880" y="2694600"/>
            <a:ext cx="925560" cy="542880"/>
          </a:xfrm>
          <a:prstGeom prst="rect">
            <a:avLst/>
          </a:prstGeom>
          <a:solidFill>
            <a:srgbClr val="ccec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7803720" y="2947680"/>
            <a:ext cx="464040" cy="438840"/>
            <a:chOff x="7803720" y="2947680"/>
            <a:chExt cx="464040" cy="438840"/>
          </a:xfrm>
        </p:grpSpPr>
        <p:sp>
          <p:nvSpPr>
            <p:cNvPr id="803" name=""/>
            <p:cNvSpPr/>
            <p:nvPr/>
          </p:nvSpPr>
          <p:spPr>
            <a:xfrm rot="21381600">
              <a:off x="7814880" y="3107880"/>
              <a:ext cx="440640" cy="11556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21411600">
              <a:off x="7819200" y="3073320"/>
              <a:ext cx="440640" cy="30096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rot="21381600">
              <a:off x="7817760" y="3112200"/>
              <a:ext cx="436320" cy="11556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rot="21411600">
              <a:off x="7811640" y="2959200"/>
              <a:ext cx="440640" cy="300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7859160" y="29289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7791480" y="2458800"/>
            <a:ext cx="464040" cy="438120"/>
            <a:chOff x="7791480" y="2458800"/>
            <a:chExt cx="464040" cy="438120"/>
          </a:xfrm>
        </p:grpSpPr>
        <p:sp>
          <p:nvSpPr>
            <p:cNvPr id="809" name=""/>
            <p:cNvSpPr/>
            <p:nvPr/>
          </p:nvSpPr>
          <p:spPr>
            <a:xfrm rot="21381600">
              <a:off x="7802280" y="2619000"/>
              <a:ext cx="440640" cy="11556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rot="21411600">
              <a:off x="7806960" y="2584080"/>
              <a:ext cx="440640" cy="30060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21381600">
              <a:off x="7805160" y="2622960"/>
              <a:ext cx="436320" cy="11556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21411600">
              <a:off x="7799400" y="2470320"/>
              <a:ext cx="440640" cy="300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3" name=""/>
          <p:cNvSpPr/>
          <p:nvPr/>
        </p:nvSpPr>
        <p:spPr>
          <a:xfrm>
            <a:off x="7859520" y="2427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8238960" y="2655720"/>
            <a:ext cx="219240" cy="16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8238960" y="3005280"/>
            <a:ext cx="244800" cy="10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24E6-DBBC-47F0-B722-E45041D4A55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320" y="38160"/>
            <a:ext cx="8991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System Consistenc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240" y="1294920"/>
            <a:ext cx="9068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: don’t lose file system data after a cr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keep file system consistent after every w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s do not provide atomic, multi-block wr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urn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forc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rite-before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11920" y="3660840"/>
            <a:ext cx="2501640" cy="8254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51000" y="3660840"/>
            <a:ext cx="2314440" cy="8254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 Jou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1520" y="3660840"/>
            <a:ext cx="1771920" cy="8254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Jou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"/>
          <p:cNvCxnSpPr>
            <a:stCxn id="74" idx="1"/>
            <a:endCxn id="75" idx="3"/>
          </p:cNvCxnSpPr>
          <p:nvPr/>
        </p:nvCxnSpPr>
        <p:spPr>
          <a:xfrm flipH="1">
            <a:off x="5374800" y="4078080"/>
            <a:ext cx="529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8" name=""/>
          <p:cNvCxnSpPr>
            <a:stCxn id="75" idx="1"/>
            <a:endCxn id="76" idx="3"/>
          </p:cNvCxnSpPr>
          <p:nvPr/>
        </p:nvCxnSpPr>
        <p:spPr>
          <a:xfrm flipH="1">
            <a:off x="2512800" y="4078080"/>
            <a:ext cx="529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D52A-EB3B-4DC3-99F0-DB55A19D1B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/>
          </p:nvPr>
        </p:nvSpPr>
        <p:spPr>
          <a:xfrm>
            <a:off x="39240" y="2209320"/>
            <a:ext cx="90680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 patch mer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patch mer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title"/>
          </p:nvPr>
        </p:nvSpPr>
        <p:spPr>
          <a:xfrm>
            <a:off x="76320" y="38160"/>
            <a:ext cx="8991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ch Merg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4648320" y="3564000"/>
            <a:ext cx="2743200" cy="931320"/>
            <a:chOff x="4648320" y="3564000"/>
            <a:chExt cx="2743200" cy="931320"/>
          </a:xfrm>
        </p:grpSpPr>
        <p:sp>
          <p:nvSpPr>
            <p:cNvPr id="819" name=""/>
            <p:cNvSpPr/>
            <p:nvPr/>
          </p:nvSpPr>
          <p:spPr>
            <a:xfrm>
              <a:off x="5791320" y="4041720"/>
              <a:ext cx="457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648320" y="3660480"/>
              <a:ext cx="1066680" cy="834840"/>
            </a:xfrm>
            <a:prstGeom prst="rect">
              <a:avLst/>
            </a:prstGeom>
            <a:solidFill>
              <a:srgbClr val="f0fafa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1" name=""/>
            <p:cNvGrpSpPr/>
            <p:nvPr/>
          </p:nvGrpSpPr>
          <p:grpSpPr>
            <a:xfrm>
              <a:off x="5181120" y="4029120"/>
              <a:ext cx="457920" cy="432720"/>
              <a:chOff x="5181120" y="4029120"/>
              <a:chExt cx="457920" cy="432720"/>
            </a:xfrm>
          </p:grpSpPr>
          <p:sp>
            <p:nvSpPr>
              <p:cNvPr id="822" name=""/>
              <p:cNvSpPr/>
              <p:nvPr/>
            </p:nvSpPr>
            <p:spPr>
              <a:xfrm rot="21381600">
                <a:off x="5192640" y="4187160"/>
                <a:ext cx="434520" cy="114120"/>
              </a:xfrm>
              <a:prstGeom prst="rect">
                <a:avLst/>
              </a:prstGeom>
              <a:solidFill>
                <a:srgbClr val="a0d4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411600">
                <a:off x="5196240" y="4152960"/>
                <a:ext cx="434520" cy="297000"/>
              </a:xfrm>
              <a:prstGeom prst="ellipse">
                <a:avLst/>
              </a:prstGeom>
              <a:solidFill>
                <a:srgbClr val="a0d4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1381600">
                <a:off x="5194800" y="4190760"/>
                <a:ext cx="430200" cy="114120"/>
              </a:xfrm>
              <a:prstGeom prst="rect">
                <a:avLst/>
              </a:prstGeom>
              <a:solidFill>
                <a:srgbClr val="a0d4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411600">
                <a:off x="5188680" y="4040640"/>
                <a:ext cx="434520" cy="297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"/>
            <p:cNvGrpSpPr/>
            <p:nvPr/>
          </p:nvGrpSpPr>
          <p:grpSpPr>
            <a:xfrm>
              <a:off x="5184360" y="3571920"/>
              <a:ext cx="457920" cy="432720"/>
              <a:chOff x="5184360" y="3571920"/>
              <a:chExt cx="457920" cy="432720"/>
            </a:xfrm>
          </p:grpSpPr>
          <p:sp>
            <p:nvSpPr>
              <p:cNvPr id="827" name=""/>
              <p:cNvSpPr/>
              <p:nvPr/>
            </p:nvSpPr>
            <p:spPr>
              <a:xfrm rot="21381600">
                <a:off x="5195880" y="3729960"/>
                <a:ext cx="434520" cy="114120"/>
              </a:xfrm>
              <a:prstGeom prst="rect">
                <a:avLst/>
              </a:prstGeom>
              <a:solidFill>
                <a:srgbClr val="a0d4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1411600">
                <a:off x="5199480" y="3695760"/>
                <a:ext cx="434520" cy="297000"/>
              </a:xfrm>
              <a:prstGeom prst="ellipse">
                <a:avLst/>
              </a:prstGeom>
              <a:solidFill>
                <a:srgbClr val="a0d4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1381600">
                <a:off x="5198040" y="3733560"/>
                <a:ext cx="430200" cy="114120"/>
              </a:xfrm>
              <a:prstGeom prst="rect">
                <a:avLst/>
              </a:prstGeom>
              <a:solidFill>
                <a:srgbClr val="a0d4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1411600">
                <a:off x="5191920" y="3583440"/>
                <a:ext cx="434520" cy="297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1" name=""/>
            <p:cNvSpPr/>
            <p:nvPr/>
          </p:nvSpPr>
          <p:spPr>
            <a:xfrm>
              <a:off x="6324480" y="3660480"/>
              <a:ext cx="1067040" cy="834840"/>
            </a:xfrm>
            <a:prstGeom prst="rect">
              <a:avLst/>
            </a:prstGeom>
            <a:solidFill>
              <a:srgbClr val="f0fafa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2" name=""/>
            <p:cNvGrpSpPr/>
            <p:nvPr/>
          </p:nvGrpSpPr>
          <p:grpSpPr>
            <a:xfrm>
              <a:off x="6857640" y="4029120"/>
              <a:ext cx="457920" cy="432720"/>
              <a:chOff x="6857640" y="4029120"/>
              <a:chExt cx="457920" cy="432720"/>
            </a:xfrm>
          </p:grpSpPr>
          <p:sp>
            <p:nvSpPr>
              <p:cNvPr id="833" name=""/>
              <p:cNvSpPr/>
              <p:nvPr/>
            </p:nvSpPr>
            <p:spPr>
              <a:xfrm rot="21381600">
                <a:off x="6869160" y="4187160"/>
                <a:ext cx="434520" cy="114120"/>
              </a:xfrm>
              <a:prstGeom prst="rect">
                <a:avLst/>
              </a:prstGeom>
              <a:solidFill>
                <a:srgbClr val="a0d4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1411600">
                <a:off x="6872760" y="4152960"/>
                <a:ext cx="434520" cy="297000"/>
              </a:xfrm>
              <a:prstGeom prst="ellipse">
                <a:avLst/>
              </a:prstGeom>
              <a:solidFill>
                <a:srgbClr val="a0d4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1381600">
                <a:off x="6871320" y="4190760"/>
                <a:ext cx="430200" cy="114120"/>
              </a:xfrm>
              <a:prstGeom prst="rect">
                <a:avLst/>
              </a:prstGeom>
              <a:solidFill>
                <a:srgbClr val="a0d4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21411600">
                <a:off x="6865200" y="4040640"/>
                <a:ext cx="434520" cy="297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7" name=""/>
            <p:cNvSpPr/>
            <p:nvPr/>
          </p:nvSpPr>
          <p:spPr>
            <a:xfrm>
              <a:off x="5254200" y="35640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250960" y="40096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795720" y="4009680"/>
              <a:ext cx="57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+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4038480" y="2209680"/>
            <a:ext cx="3962520" cy="609840"/>
            <a:chOff x="4038480" y="2209680"/>
            <a:chExt cx="3962520" cy="609840"/>
          </a:xfrm>
        </p:grpSpPr>
        <p:sp>
          <p:nvSpPr>
            <p:cNvPr id="841" name=""/>
            <p:cNvSpPr/>
            <p:nvPr/>
          </p:nvSpPr>
          <p:spPr>
            <a:xfrm>
              <a:off x="6324480" y="2212920"/>
              <a:ext cx="1676520" cy="606600"/>
            </a:xfrm>
            <a:prstGeom prst="rect">
              <a:avLst/>
            </a:prstGeom>
            <a:solidFill>
              <a:srgbClr val="f0fafa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2" name=""/>
            <p:cNvGrpSpPr/>
            <p:nvPr/>
          </p:nvGrpSpPr>
          <p:grpSpPr>
            <a:xfrm>
              <a:off x="6402240" y="2222640"/>
              <a:ext cx="1428120" cy="569880"/>
              <a:chOff x="6402240" y="2222640"/>
              <a:chExt cx="1428120" cy="569880"/>
            </a:xfrm>
          </p:grpSpPr>
          <p:sp>
            <p:nvSpPr>
              <p:cNvPr id="843" name=""/>
              <p:cNvSpPr/>
              <p:nvPr/>
            </p:nvSpPr>
            <p:spPr>
              <a:xfrm rot="21411000">
                <a:off x="6414480" y="2260440"/>
                <a:ext cx="1402920" cy="493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 rot="8100000">
                <a:off x="7586280" y="2652120"/>
                <a:ext cx="244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982" y="2"/>
                    </a:moveTo>
                    <a:arcTo wR="10800" hR="10800" stAng="-5341922" swAng="107692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982" y="2"/>
                    </a:moveTo>
                    <a:arcTo wR="10800" hR="10800" stAng="-5341922" swAng="10769207"/>
                  </a:path>
                </a:pathLst>
              </a:cu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 rot="1800000">
                <a:off x="7595280" y="230004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982" y="2"/>
                    </a:moveTo>
                    <a:arcTo wR="10800" hR="10800" stAng="-5341922" swAng="107692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982" y="2"/>
                    </a:moveTo>
                    <a:arcTo wR="10800" hR="10800" stAng="-5341922" swAng="10769207"/>
                  </a:path>
                </a:pathLst>
              </a:cu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 rot="18900000">
                <a:off x="6490440" y="2408760"/>
                <a:ext cx="244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982" y="2"/>
                    </a:moveTo>
                    <a:arcTo wR="10800" hR="10800" stAng="-5341922" swAng="107692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982" y="2"/>
                    </a:moveTo>
                    <a:arcTo wR="10800" hR="10800" stAng="-5341922" swAng="10769207"/>
                  </a:path>
                </a:pathLst>
              </a:cu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V="1" rot="18900000">
                <a:off x="7735680" y="2572920"/>
                <a:ext cx="2484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982" y="2"/>
                    </a:moveTo>
                    <a:arcTo wR="10800" hR="10800" stAng="-5341922" swAng="107692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982" y="2"/>
                    </a:moveTo>
                    <a:arcTo wR="10800" hR="10800" stAng="-5341922" swAng="10769207"/>
                  </a:path>
                </a:pathLst>
              </a:cu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2700000">
                <a:off x="6440400" y="2608920"/>
                <a:ext cx="244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982" y="2"/>
                    </a:moveTo>
                    <a:arcTo wR="10800" hR="10800" stAng="-5341922" swAng="107692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982" y="2"/>
                    </a:moveTo>
                    <a:arcTo wR="10800" hR="10800" stAng="-5341922" swAng="10769207"/>
                  </a:path>
                </a:pathLst>
              </a:cu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7084800" y="225252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982" y="2"/>
                    </a:moveTo>
                    <a:arcTo wR="10800" hR="10800" stAng="-5341922" swAng="107692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982" y="2"/>
                    </a:moveTo>
                    <a:arcTo wR="10800" hR="10800" stAng="-5341922" swAng="10769207"/>
                  </a:path>
                </a:pathLst>
              </a:cu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149240" y="2741760"/>
                <a:ext cx="237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982" y="2"/>
                    </a:moveTo>
                    <a:arcTo wR="10800" hR="10800" stAng="-5341922" swAng="107692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982" y="2"/>
                    </a:moveTo>
                    <a:arcTo wR="10800" hR="10800" stAng="-5341922" swAng="10769207"/>
                  </a:path>
                </a:pathLst>
              </a:cu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5400000">
                <a:off x="6407280" y="2502360"/>
                <a:ext cx="244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982" y="2"/>
                    </a:moveTo>
                    <a:arcTo wR="10800" hR="10800" stAng="-5341922" swAng="107692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982" y="2"/>
                    </a:moveTo>
                    <a:arcTo wR="10800" hR="10800" stAng="-5341922" swAng="10769207"/>
                  </a:path>
                </a:pathLst>
              </a:cu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V="1" rot="16200000">
                <a:off x="7806960" y="2467440"/>
                <a:ext cx="2520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982" y="2"/>
                    </a:moveTo>
                    <a:arcTo wR="10800" hR="10800" stAng="-5341922" swAng="107692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982" y="2"/>
                    </a:moveTo>
                    <a:arcTo wR="10800" hR="10800" stAng="-5341922" swAng="10769207"/>
                  </a:path>
                </a:pathLst>
              </a:cu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V="1" rot="1800000">
                <a:off x="6613200" y="269748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982" y="2"/>
                    </a:moveTo>
                    <a:arcTo wR="10800" hR="10800" stAng="-5341922" swAng="107692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982" y="2"/>
                    </a:moveTo>
                    <a:arcTo wR="10800" hR="10800" stAng="-5341922" swAng="10769207"/>
                  </a:path>
                </a:pathLst>
              </a:cu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V="1" rot="900000">
                <a:off x="6840720" y="2739600"/>
                <a:ext cx="237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982" y="2"/>
                    </a:moveTo>
                    <a:arcTo wR="10800" hR="10800" stAng="-5341922" swAng="107692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982" y="2"/>
                    </a:moveTo>
                    <a:arcTo wR="10800" hR="10800" stAng="-5341922" swAng="10769207"/>
                  </a:path>
                </a:pathLst>
              </a:cu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20700000">
                <a:off x="7402680" y="2705040"/>
                <a:ext cx="244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982" y="2"/>
                    </a:moveTo>
                    <a:arcTo wR="10800" hR="10800" stAng="-5341922" swAng="107692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982" y="2"/>
                    </a:moveTo>
                    <a:arcTo wR="10800" hR="10800" stAng="-5341922" swAng="10769207"/>
                  </a:path>
                </a:pathLst>
              </a:cu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 rot="900000">
                <a:off x="7334280" y="2251440"/>
                <a:ext cx="237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982" y="2"/>
                    </a:moveTo>
                    <a:arcTo wR="10800" hR="10800" stAng="-5341922" swAng="107692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982" y="2"/>
                    </a:moveTo>
                    <a:arcTo wR="10800" hR="10800" stAng="-5341922" swAng="10769207"/>
                  </a:path>
                </a:pathLst>
              </a:cu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 flipV="1" rot="20700000">
                <a:off x="6836040" y="2282040"/>
                <a:ext cx="237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982" y="2"/>
                    </a:moveTo>
                    <a:arcTo wR="10800" hR="10800" stAng="-5341922" swAng="107692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982" y="2"/>
                    </a:moveTo>
                    <a:arcTo wR="10800" hR="10800" stAng="-5341922" swAng="10769207"/>
                  </a:path>
                </a:pathLst>
              </a:cu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V="1" rot="9000000">
                <a:off x="6635880" y="2335320"/>
                <a:ext cx="244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982" y="2"/>
                    </a:moveTo>
                    <a:arcTo wR="10800" hR="10800" stAng="-5341922" swAng="107692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982" y="2"/>
                    </a:moveTo>
                    <a:arcTo wR="10800" hR="10800" stAng="-5341922" swAng="10769207"/>
                  </a:path>
                </a:pathLst>
              </a:cu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 rot="2700000">
                <a:off x="7716240" y="2350800"/>
                <a:ext cx="244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982" y="2"/>
                    </a:moveTo>
                    <a:arcTo wR="10800" hR="10800" stAng="-5341922" swAng="107692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982" y="2"/>
                    </a:moveTo>
                    <a:arcTo wR="10800" hR="10800" stAng="-5341922" swAng="10769207"/>
                  </a:path>
                </a:pathLst>
              </a:cu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0" name=""/>
            <p:cNvSpPr/>
            <p:nvPr/>
          </p:nvSpPr>
          <p:spPr>
            <a:xfrm>
              <a:off x="4038480" y="2209680"/>
              <a:ext cx="1676520" cy="606600"/>
            </a:xfrm>
            <a:prstGeom prst="rect">
              <a:avLst/>
            </a:prstGeom>
            <a:solidFill>
              <a:srgbClr val="f0fafa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1" name=""/>
            <p:cNvGrpSpPr/>
            <p:nvPr/>
          </p:nvGrpSpPr>
          <p:grpSpPr>
            <a:xfrm>
              <a:off x="4111200" y="2243160"/>
              <a:ext cx="745560" cy="531720"/>
              <a:chOff x="4111200" y="2243160"/>
              <a:chExt cx="745560" cy="531720"/>
            </a:xfrm>
          </p:grpSpPr>
          <p:sp>
            <p:nvSpPr>
              <p:cNvPr id="862" name=""/>
              <p:cNvSpPr/>
              <p:nvPr/>
            </p:nvSpPr>
            <p:spPr>
              <a:xfrm rot="21411000">
                <a:off x="4124160" y="2262600"/>
                <a:ext cx="719640" cy="492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5400000">
                <a:off x="4111560" y="2492640"/>
                <a:ext cx="2592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982" y="2"/>
                    </a:moveTo>
                    <a:arcTo wR="10800" hR="10800" stAng="-5341922" swAng="107692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982" y="2"/>
                    </a:moveTo>
                    <a:arcTo wR="10800" hR="10800" stAng="-5341922" swAng="10769207"/>
                  </a:path>
                </a:pathLst>
              </a:cu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00000">
                <a:off x="4831200" y="2497680"/>
                <a:ext cx="2592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982" y="2"/>
                    </a:moveTo>
                    <a:arcTo wR="10800" hR="10800" stAng="-5341922" swAng="107692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982" y="2"/>
                    </a:moveTo>
                    <a:arcTo wR="10800" hR="10800" stAng="-5341922" swAng="10769207"/>
                  </a:path>
                </a:pathLst>
              </a:cu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490280" y="2743920"/>
                <a:ext cx="2592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982" y="2"/>
                    </a:moveTo>
                    <a:arcTo wR="10800" hR="10800" stAng="-5341922" swAng="107692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982" y="2"/>
                    </a:moveTo>
                    <a:arcTo wR="10800" hR="10800" stAng="-5341922" swAng="10769207"/>
                  </a:path>
                </a:pathLst>
              </a:cu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4465440" y="2251080"/>
                <a:ext cx="2592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982" y="2"/>
                    </a:moveTo>
                    <a:arcTo wR="10800" hR="10800" stAng="-5341922" swAng="107692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982" y="2"/>
                    </a:moveTo>
                    <a:arcTo wR="10800" hR="10800" stAng="-5341922" swAng="10769207"/>
                  </a:path>
                </a:pathLst>
              </a:cu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 rot="18900000">
                <a:off x="4221360" y="2328480"/>
                <a:ext cx="2592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982" y="2"/>
                    </a:moveTo>
                    <a:arcTo wR="10800" hR="10800" stAng="-5341922" swAng="107692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982" y="2"/>
                    </a:moveTo>
                    <a:arcTo wR="10800" hR="10800" stAng="-5341922" swAng="10769207"/>
                  </a:path>
                </a:pathLst>
              </a:cu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8900000">
                <a:off x="4725720" y="2665080"/>
                <a:ext cx="2592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982" y="2"/>
                    </a:moveTo>
                    <a:arcTo wR="10800" hR="10800" stAng="-5341922" swAng="107692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982" y="2"/>
                    </a:moveTo>
                    <a:arcTo wR="10800" hR="10800" stAng="-5341922" swAng="10769207"/>
                  </a:path>
                </a:pathLst>
              </a:cu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H="1" rot="2700000">
                <a:off x="4727880" y="2319840"/>
                <a:ext cx="2592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982" y="2"/>
                    </a:moveTo>
                    <a:arcTo wR="10800" hR="10800" stAng="-5341922" swAng="107692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982" y="2"/>
                    </a:moveTo>
                    <a:arcTo wR="10800" hR="10800" stAng="-5341922" swAng="10769207"/>
                  </a:path>
                </a:pathLst>
              </a:cu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 rot="13500000">
                <a:off x="4212360" y="2675520"/>
                <a:ext cx="2592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982" y="2"/>
                    </a:moveTo>
                    <a:arcTo wR="10800" hR="10800" stAng="-5341922" swAng="107692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982" y="2"/>
                    </a:moveTo>
                    <a:arcTo wR="10800" hR="10800" stAng="-5341922" swAng="10769207"/>
                  </a:path>
                </a:pathLst>
              </a:cu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V="1" rot="20280000">
                <a:off x="4626360" y="2715840"/>
                <a:ext cx="2592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982" y="2"/>
                    </a:moveTo>
                    <a:arcTo wR="10800" hR="10800" stAng="-5341922" swAng="107692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982" y="2"/>
                    </a:moveTo>
                    <a:arcTo wR="10800" hR="10800" stAng="-5341922" swAng="10769207"/>
                  </a:path>
                </a:pathLst>
              </a:cu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320000">
                <a:off x="4332960" y="2730600"/>
                <a:ext cx="2592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982" y="2"/>
                    </a:moveTo>
                    <a:arcTo wR="10800" hR="10800" stAng="-5341922" swAng="107692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982" y="2"/>
                    </a:moveTo>
                    <a:arcTo wR="10800" hR="10800" stAng="-5341922" swAng="10769207"/>
                  </a:path>
                </a:pathLst>
              </a:cu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H="1" rot="14880000">
                <a:off x="4138200" y="2602080"/>
                <a:ext cx="2592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982" y="2"/>
                    </a:moveTo>
                    <a:arcTo wR="10800" hR="10800" stAng="-5341922" swAng="107692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982" y="2"/>
                    </a:moveTo>
                    <a:arcTo wR="10800" hR="10800" stAng="-5341922" swAng="10769207"/>
                  </a:path>
                </a:pathLst>
              </a:cu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6720000">
                <a:off x="4143960" y="2401920"/>
                <a:ext cx="2520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982" y="2"/>
                    </a:moveTo>
                    <a:arcTo wR="10800" hR="10800" stAng="-5341922" swAng="107692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982" y="2"/>
                    </a:moveTo>
                    <a:arcTo wR="10800" hR="10800" stAng="-5341922" swAng="10769207"/>
                  </a:path>
                </a:pathLst>
              </a:cu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H="1" rot="20280000">
                <a:off x="4332960" y="2275200"/>
                <a:ext cx="2592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982" y="2"/>
                    </a:moveTo>
                    <a:arcTo wR="10800" hR="10800" stAng="-5341922" swAng="107692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982" y="2"/>
                    </a:moveTo>
                    <a:arcTo wR="10800" hR="10800" stAng="-5341922" swAng="10769207"/>
                  </a:path>
                </a:pathLst>
              </a:cu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2120000">
                <a:off x="4601520" y="2264400"/>
                <a:ext cx="2592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982" y="2"/>
                    </a:moveTo>
                    <a:arcTo wR="10800" hR="10800" stAng="-5341922" swAng="107692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982" y="2"/>
                    </a:moveTo>
                    <a:arcTo wR="10800" hR="10800" stAng="-5341922" swAng="10769207"/>
                  </a:path>
                </a:pathLst>
              </a:cu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H="1" rot="4080000">
                <a:off x="4802760" y="2394360"/>
                <a:ext cx="2592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982" y="2"/>
                    </a:moveTo>
                    <a:arcTo wR="10800" hR="10800" stAng="-5341922" swAng="107692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982" y="2"/>
                    </a:moveTo>
                    <a:arcTo wR="10800" hR="10800" stAng="-5341922" swAng="10769207"/>
                  </a:path>
                </a:pathLst>
              </a:cu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17520000">
                <a:off x="4794480" y="2597760"/>
                <a:ext cx="2592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982" y="2"/>
                    </a:moveTo>
                    <a:arcTo wR="10800" hR="10800" stAng="-5341922" swAng="107692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982" y="2"/>
                    </a:moveTo>
                    <a:arcTo wR="10800" hR="10800" stAng="-5341922" swAng="10769207"/>
                  </a:path>
                </a:pathLst>
              </a:cu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9" name=""/>
            <p:cNvGrpSpPr/>
            <p:nvPr/>
          </p:nvGrpSpPr>
          <p:grpSpPr>
            <a:xfrm>
              <a:off x="4817520" y="2239920"/>
              <a:ext cx="745920" cy="531720"/>
              <a:chOff x="4817520" y="2239920"/>
              <a:chExt cx="745920" cy="531720"/>
            </a:xfrm>
          </p:grpSpPr>
          <p:sp>
            <p:nvSpPr>
              <p:cNvPr id="880" name=""/>
              <p:cNvSpPr/>
              <p:nvPr/>
            </p:nvSpPr>
            <p:spPr>
              <a:xfrm rot="21411000">
                <a:off x="4830480" y="2259360"/>
                <a:ext cx="720000" cy="492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5400000">
                <a:off x="4817880" y="2489400"/>
                <a:ext cx="2592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982" y="2"/>
                    </a:moveTo>
                    <a:arcTo wR="10800" hR="10800" stAng="-5341922" swAng="107692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982" y="2"/>
                    </a:moveTo>
                    <a:arcTo wR="10800" hR="10800" stAng="-5341922" swAng="1076920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16200000">
                <a:off x="5537880" y="2494440"/>
                <a:ext cx="2592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982" y="2"/>
                    </a:moveTo>
                    <a:arcTo wR="10800" hR="10800" stAng="-5341922" swAng="107692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982" y="2"/>
                    </a:moveTo>
                    <a:arcTo wR="10800" hR="10800" stAng="-5341922" swAng="1076920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196600" y="2740680"/>
                <a:ext cx="2592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982" y="2"/>
                    </a:moveTo>
                    <a:arcTo wR="10800" hR="10800" stAng="-5341922" swAng="107692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982" y="2"/>
                    </a:moveTo>
                    <a:arcTo wR="10800" hR="10800" stAng="-5341922" swAng="1076920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H="1">
                <a:off x="5171760" y="2247840"/>
                <a:ext cx="2592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982" y="2"/>
                    </a:moveTo>
                    <a:arcTo wR="10800" hR="10800" stAng="-5341922" swAng="107692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982" y="2"/>
                    </a:moveTo>
                    <a:arcTo wR="10800" hR="10800" stAng="-5341922" swAng="1076920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 rot="18900000">
                <a:off x="4927680" y="2325240"/>
                <a:ext cx="2592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982" y="2"/>
                    </a:moveTo>
                    <a:arcTo wR="10800" hR="10800" stAng="-5341922" swAng="107692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982" y="2"/>
                    </a:moveTo>
                    <a:arcTo wR="10800" hR="10800" stAng="-5341922" swAng="1076920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18900000">
                <a:off x="5432400" y="2661840"/>
                <a:ext cx="2592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982" y="2"/>
                    </a:moveTo>
                    <a:arcTo wR="10800" hR="10800" stAng="-5341922" swAng="107692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982" y="2"/>
                    </a:moveTo>
                    <a:arcTo wR="10800" hR="10800" stAng="-5341922" swAng="1076920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H="1" rot="2700000">
                <a:off x="5434560" y="2316600"/>
                <a:ext cx="2592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982" y="2"/>
                    </a:moveTo>
                    <a:arcTo wR="10800" hR="10800" stAng="-5341922" swAng="107692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982" y="2"/>
                    </a:moveTo>
                    <a:arcTo wR="10800" hR="10800" stAng="-5341922" swAng="1076920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flipH="1" rot="13500000">
                <a:off x="4918680" y="2672280"/>
                <a:ext cx="2592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982" y="2"/>
                    </a:moveTo>
                    <a:arcTo wR="10800" hR="10800" stAng="-5341922" swAng="107692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982" y="2"/>
                    </a:moveTo>
                    <a:arcTo wR="10800" hR="10800" stAng="-5341922" swAng="1076920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V="1" rot="20280000">
                <a:off x="5333040" y="2712600"/>
                <a:ext cx="2592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982" y="2"/>
                    </a:moveTo>
                    <a:arcTo wR="10800" hR="10800" stAng="-5341922" swAng="107692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982" y="2"/>
                    </a:moveTo>
                    <a:arcTo wR="10800" hR="10800" stAng="-5341922" swAng="1076920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320000">
                <a:off x="5039640" y="2727360"/>
                <a:ext cx="2592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982" y="2"/>
                    </a:moveTo>
                    <a:arcTo wR="10800" hR="10800" stAng="-5341922" swAng="107692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982" y="2"/>
                    </a:moveTo>
                    <a:arcTo wR="10800" hR="10800" stAng="-5341922" swAng="1076920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H="1" rot="14880000">
                <a:off x="4844520" y="2598840"/>
                <a:ext cx="2592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982" y="2"/>
                    </a:moveTo>
                    <a:arcTo wR="10800" hR="10800" stAng="-5341922" swAng="107692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982" y="2"/>
                    </a:moveTo>
                    <a:arcTo wR="10800" hR="10800" stAng="-5341922" swAng="1076920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6720000">
                <a:off x="4850280" y="2398680"/>
                <a:ext cx="2520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982" y="2"/>
                    </a:moveTo>
                    <a:arcTo wR="10800" hR="10800" stAng="-5341922" swAng="107692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982" y="2"/>
                    </a:moveTo>
                    <a:arcTo wR="10800" hR="10800" stAng="-5341922" swAng="1076920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 rot="20280000">
                <a:off x="5039280" y="2271960"/>
                <a:ext cx="2592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982" y="2"/>
                    </a:moveTo>
                    <a:arcTo wR="10800" hR="10800" stAng="-5341922" swAng="107692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982" y="2"/>
                    </a:moveTo>
                    <a:arcTo wR="10800" hR="10800" stAng="-5341922" swAng="1076920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2120000">
                <a:off x="5308200" y="2261160"/>
                <a:ext cx="2592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982" y="2"/>
                    </a:moveTo>
                    <a:arcTo wR="10800" hR="10800" stAng="-5341922" swAng="107692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982" y="2"/>
                    </a:moveTo>
                    <a:arcTo wR="10800" hR="10800" stAng="-5341922" swAng="1076920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 rot="4080000">
                <a:off x="5509440" y="2391120"/>
                <a:ext cx="2592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982" y="2"/>
                    </a:moveTo>
                    <a:arcTo wR="10800" hR="10800" stAng="-5341922" swAng="107692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982" y="2"/>
                    </a:moveTo>
                    <a:arcTo wR="10800" hR="10800" stAng="-5341922" swAng="1076920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17520000">
                <a:off x="5501160" y="2594520"/>
                <a:ext cx="2592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982" y="2"/>
                    </a:moveTo>
                    <a:arcTo wR="10800" hR="10800" stAng="-5341922" swAng="107692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982" y="2"/>
                    </a:moveTo>
                    <a:arcTo wR="10800" hR="10800" stAng="-5341922" swAng="1076920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7" name=""/>
            <p:cNvSpPr/>
            <p:nvPr/>
          </p:nvSpPr>
          <p:spPr>
            <a:xfrm>
              <a:off x="5040000" y="23256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328640" y="23256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791320" y="2514600"/>
              <a:ext cx="457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791400" y="2325600"/>
              <a:ext cx="68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 +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F6B0-725F-48F3-8782-FB1C019945B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781360" y="1295280"/>
            <a:ext cx="3581280" cy="68580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2919240" y="1409760"/>
            <a:ext cx="33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Evalu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381400" y="2895480"/>
            <a:ext cx="43797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Patches for fil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Patches for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Patch optim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C52D-E5D0-42C0-87B9-C1F89D9BF79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76320" y="38160"/>
            <a:ext cx="8991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icient Disk Write Orde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39240" y="1447920"/>
            <a:ext cx="9068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stitch needs to efficient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 when a write becomes d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disk caches safely reorder wr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SI TCQ or modern SATA NC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FUA requests or WT drive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uses disk cache safely for both Featherstitch and 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6705720" y="1812600"/>
            <a:ext cx="2209680" cy="614520"/>
            <a:chOff x="6705720" y="1812600"/>
            <a:chExt cx="2209680" cy="614520"/>
          </a:xfrm>
        </p:grpSpPr>
        <p:sp>
          <p:nvSpPr>
            <p:cNvPr id="908" name=""/>
            <p:cNvSpPr/>
            <p:nvPr/>
          </p:nvSpPr>
          <p:spPr>
            <a:xfrm>
              <a:off x="6705720" y="1933560"/>
              <a:ext cx="1068120" cy="493560"/>
            </a:xfrm>
            <a:prstGeom prst="rect">
              <a:avLst/>
            </a:prstGeom>
            <a:solidFill>
              <a:srgbClr val="f0fafa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9" name=""/>
            <p:cNvGrpSpPr/>
            <p:nvPr/>
          </p:nvGrpSpPr>
          <p:grpSpPr>
            <a:xfrm>
              <a:off x="6725880" y="1812600"/>
              <a:ext cx="587880" cy="554760"/>
              <a:chOff x="6725880" y="1812600"/>
              <a:chExt cx="587880" cy="554760"/>
            </a:xfrm>
          </p:grpSpPr>
          <p:sp>
            <p:nvSpPr>
              <p:cNvPr id="910" name=""/>
              <p:cNvSpPr/>
              <p:nvPr/>
            </p:nvSpPr>
            <p:spPr>
              <a:xfrm rot="21381600">
                <a:off x="6740640" y="2015640"/>
                <a:ext cx="558360" cy="146160"/>
              </a:xfrm>
              <a:prstGeom prst="rect">
                <a:avLst/>
              </a:prstGeom>
              <a:solidFill>
                <a:srgbClr val="a0d4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21411600">
                <a:off x="6744960" y="1971360"/>
                <a:ext cx="558360" cy="380880"/>
              </a:xfrm>
              <a:prstGeom prst="ellipse">
                <a:avLst/>
              </a:prstGeom>
              <a:solidFill>
                <a:srgbClr val="a0d4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rot="21381600">
                <a:off x="6743520" y="2019960"/>
                <a:ext cx="552600" cy="146160"/>
              </a:xfrm>
              <a:prstGeom prst="rect">
                <a:avLst/>
              </a:prstGeom>
              <a:solidFill>
                <a:srgbClr val="a0d4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21411600">
                <a:off x="6735600" y="1827360"/>
                <a:ext cx="558000" cy="380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"/>
            <p:cNvSpPr/>
            <p:nvPr/>
          </p:nvSpPr>
          <p:spPr>
            <a:xfrm>
              <a:off x="7848720" y="1933560"/>
              <a:ext cx="1066680" cy="493560"/>
            </a:xfrm>
            <a:prstGeom prst="rect">
              <a:avLst/>
            </a:prstGeom>
            <a:solidFill>
              <a:srgbClr val="f0fafa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"/>
            <p:cNvGrpSpPr/>
            <p:nvPr/>
          </p:nvGrpSpPr>
          <p:grpSpPr>
            <a:xfrm>
              <a:off x="7869240" y="1812600"/>
              <a:ext cx="584280" cy="552960"/>
              <a:chOff x="7869240" y="1812600"/>
              <a:chExt cx="584280" cy="552960"/>
            </a:xfrm>
          </p:grpSpPr>
          <p:sp>
            <p:nvSpPr>
              <p:cNvPr id="916" name=""/>
              <p:cNvSpPr/>
              <p:nvPr/>
            </p:nvSpPr>
            <p:spPr>
              <a:xfrm rot="21381600">
                <a:off x="7883640" y="2014920"/>
                <a:ext cx="555120" cy="145800"/>
              </a:xfrm>
              <a:prstGeom prst="rect">
                <a:avLst/>
              </a:prstGeom>
              <a:solidFill>
                <a:srgbClr val="a0d4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rot="21411600">
                <a:off x="7887960" y="1971000"/>
                <a:ext cx="555120" cy="379440"/>
              </a:xfrm>
              <a:prstGeom prst="ellipse">
                <a:avLst/>
              </a:prstGeom>
              <a:solidFill>
                <a:srgbClr val="a0d4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rot="21381600">
                <a:off x="7886520" y="2019240"/>
                <a:ext cx="549720" cy="145800"/>
              </a:xfrm>
              <a:prstGeom prst="rect">
                <a:avLst/>
              </a:prstGeom>
              <a:solidFill>
                <a:srgbClr val="a0d4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rot="21411600">
                <a:off x="7878960" y="1827360"/>
                <a:ext cx="555120" cy="379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0" name=""/>
            <p:cNvSpPr/>
            <p:nvPr/>
          </p:nvSpPr>
          <p:spPr>
            <a:xfrm flipH="1">
              <a:off x="7314840" y="2009880"/>
              <a:ext cx="56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859080" y="18288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990920" y="18288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C8D3-76BE-4E3A-B3DE-64CB75DC40B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76320" y="38160"/>
            <a:ext cx="8991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39240" y="1600200"/>
            <a:ext cx="90680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patch optimization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performance with Linux ext2/ext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Assess 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sistency correc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Comp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UW IMAP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1DC4-3F71-4942-8AA5-B662FD3BFD6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76320" y="38160"/>
            <a:ext cx="8991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: Patch Optimiz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6" name=""/>
          <p:cNvGraphicFramePr/>
          <p:nvPr/>
        </p:nvGraphicFramePr>
        <p:xfrm>
          <a:off x="444600" y="2235240"/>
          <a:ext cx="8192880" cy="2703600"/>
        </p:xfrm>
        <a:graphic>
          <a:graphicData uri="http://schemas.openxmlformats.org/drawingml/2006/table">
            <a:tbl>
              <a:tblPr/>
              <a:tblGrid>
                <a:gridCol w="2047680"/>
                <a:gridCol w="2049480"/>
                <a:gridCol w="2048040"/>
                <a:gridCol w="2047680"/>
              </a:tblGrid>
              <a:tr h="4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miz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Pat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o 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 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4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 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 G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6 se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d pat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 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 G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6 se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lap merg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0 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 G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 se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5 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M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 se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7" name=""/>
          <p:cNvSpPr/>
          <p:nvPr/>
        </p:nvSpPr>
        <p:spPr>
          <a:xfrm>
            <a:off x="3724560" y="1676520"/>
            <a:ext cx="16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M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D834-F599-41C1-BE72-1410AB220B1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76320" y="38160"/>
            <a:ext cx="8991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: Patch Optimiz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9" name=""/>
          <p:cNvGraphicFramePr/>
          <p:nvPr/>
        </p:nvGraphicFramePr>
        <p:xfrm>
          <a:off x="444600" y="2235240"/>
          <a:ext cx="8192880" cy="2703600"/>
        </p:xfrm>
        <a:graphic>
          <a:graphicData uri="http://schemas.openxmlformats.org/drawingml/2006/table">
            <a:tbl>
              <a:tblPr/>
              <a:tblGrid>
                <a:gridCol w="2047680"/>
                <a:gridCol w="2049480"/>
                <a:gridCol w="2048040"/>
                <a:gridCol w="2047680"/>
              </a:tblGrid>
              <a:tr h="4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miz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Pat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o 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 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4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 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.2 G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6 se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d pat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 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 G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6 se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lap merg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0 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 G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 se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5 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.1 M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 se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0" name=""/>
          <p:cNvSpPr/>
          <p:nvPr/>
        </p:nvSpPr>
        <p:spPr>
          <a:xfrm>
            <a:off x="3724560" y="1676520"/>
            <a:ext cx="16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M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5265720" y="2973240"/>
            <a:ext cx="456480" cy="1674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8334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83349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560C-D8B6-4955-BA25-92206421798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2" name=""/>
          <p:cNvGraphicFramePr/>
          <p:nvPr/>
        </p:nvGraphicFramePr>
        <p:xfrm>
          <a:off x="1333440" y="1241280"/>
          <a:ext cx="6477120" cy="422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3440" y="1241280"/>
                    <a:ext cx="647712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4" name=""/>
          <p:cNvSpPr/>
          <p:nvPr/>
        </p:nvSpPr>
        <p:spPr>
          <a:xfrm>
            <a:off x="3581280" y="123336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M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76320" y="38160"/>
            <a:ext cx="8991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: Linux Comparis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rot="16200000">
            <a:off x="15480" y="2924280"/>
            <a:ext cx="2300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ime (second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712800" y="720720"/>
            <a:ext cx="170496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stitch total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2469240" y="720720"/>
            <a:ext cx="1920960" cy="337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stitch system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765680" y="720720"/>
            <a:ext cx="170496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ux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al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6515280" y="720720"/>
            <a:ext cx="1915920" cy="337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nux system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699160" y="4753080"/>
            <a:ext cx="2133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굴림"/>
              </a:rPr>
              <a:t>da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journ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100320" y="4753080"/>
            <a:ext cx="2462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굴림"/>
              </a:rPr>
              <a:t>Meta da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journ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447920" y="4753080"/>
            <a:ext cx="1699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굴림"/>
              </a:rPr>
              <a:t>Soft upda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5562720"/>
            <a:ext cx="9067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er than ext2/ext3 on other bench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 allocation strategy differences dwarf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45E4-CE6B-4D5C-8684-3D702597ADC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76320" y="38160"/>
            <a:ext cx="8991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: Consistency Correctn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39240" y="1066680"/>
            <a:ext cx="9068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consist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plementations corr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ash the operating system at 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 upda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ning: High inode reference counts (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expec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urna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t (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expec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nchrono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s: References to deleted inodes, and others (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expec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9A1D-18D4-41FE-A46A-3D0A52EA6DA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76320" y="38160"/>
            <a:ext cx="8991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: Patchgrou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9240" y="2590920"/>
            <a:ext cx="9068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chgroup-enabled vs. unmodified UW IMAP server benchmark: move 1,000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runtime by 50% for SU, 97% for journ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58EE-79B7-440D-9B58-2BACDA2850D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76320" y="38160"/>
            <a:ext cx="8991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9240" y="68544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 updates [Ganger ’0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ncy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AF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Hitz ‘94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D transactions [Gal ’05,  Liskov ’04, Wright ’06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ho and CAPFS distributed fil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Mann ’94, Vilayannur ’0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nchronous write graphs [Burnett ’0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syncfs [Nightingale ’0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486F-527B-4760-A74F-1D4EADC7C45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320" y="38160"/>
            <a:ext cx="8991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System Consistency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240" y="837720"/>
            <a:ext cx="90680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bility features vs.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urnaling, ACID transaction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AF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oft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file system picks one trade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get that tradeoff plus sy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no extensible consistenc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aches compl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rite-before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ness is 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5343120"/>
            <a:ext cx="4572000" cy="916920"/>
          </a:xfrm>
          <a:prstGeom prst="rect">
            <a:avLst/>
          </a:prstGeom>
          <a:solidFill>
            <a:srgbClr val="ffe7ff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BSD and NetBSD have each recently attempted to add journaling to UF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declared fail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3514680"/>
            <a:ext cx="4572000" cy="1465560"/>
          </a:xfrm>
          <a:prstGeom prst="rect">
            <a:avLst/>
          </a:prstGeom>
          <a:solidFill>
            <a:srgbClr val="ffe7ff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ly, it took me about 5 years to thoroughly understand soft updates and I haven't met anyone other than the authors who claimed to understand it well enough to implement it.” – Valerie Hen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B334-339A-49EF-A820-8DC27FCDA4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76320" y="38160"/>
            <a:ext cx="8991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39240" y="68544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ches provide new write-before abs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ches simplify the implementation of consistency models like journaling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WAF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oft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s can precisely and explicitly specify consistency requirements using patch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s to optimizations, patch performance is competitive with ad hoc consistency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8CBF-BDFE-4EA2-85DA-48A2652DEC2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0" y="1143000"/>
            <a:ext cx="9144000" cy="160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" descr="featherstitch">
            <a:hlinkClick r:id="rId1"/>
          </p:cNvPr>
          <p:cNvPicPr/>
          <p:nvPr/>
        </p:nvPicPr>
        <p:blipFill>
          <a:blip r:embed="rId2">
            <a:lum bright="78000"/>
          </a:blip>
          <a:stretch/>
        </p:blipFill>
        <p:spPr>
          <a:xfrm>
            <a:off x="5857920" y="2971800"/>
            <a:ext cx="3286080" cy="3467160"/>
          </a:xfrm>
          <a:prstGeom prst="rect">
            <a:avLst/>
          </a:prstGeom>
          <a:ln w="0">
            <a:noFill/>
          </a:ln>
        </p:spPr>
      </p:pic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714320" y="1328040"/>
            <a:ext cx="5715000" cy="12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atherstitch source:</a:t>
            </a:r>
            <a:br>
              <a:rPr sz="3600"/>
            </a:br>
            <a:br>
              <a:rPr sz="8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eatherstitch.cs.ucla.edu/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8991720" y="6477120"/>
            <a:ext cx="1522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747800" y="3048120"/>
            <a:ext cx="466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ks to the NSF, Microsoft, and Int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9650-650E-4CE9-BF11-B9DF5EB3E95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320" y="38160"/>
            <a:ext cx="8991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1600200"/>
            <a:ext cx="8686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24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we develop a simple, general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24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implementing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nsistency mode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160" y="3352680"/>
            <a:ext cx="9067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es! With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atc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bstraction in Featherstitc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le systems specify low-level write-before 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uffer cache commits disk changes, obeying their order 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2895480"/>
            <a:ext cx="8839440" cy="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4225-1BB2-4455-BA62-BD19B99450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320" y="38160"/>
            <a:ext cx="8991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atherstitch Contribu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240" y="1142640"/>
            <a:ext cx="9068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t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tchgro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b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굴림"/>
              </a:rPr>
              <a:t>W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te-before relations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굴림"/>
              </a:rPr>
              <a:t>become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plicit and file system agnosti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st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pla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nux’s file system and buffer cach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2, UFS implement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ournaling,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굴림"/>
              </a:rPr>
              <a:t>WAFL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, and soft updates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mplemented using just patch arrange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ch optimizations make patch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prac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58CD-604A-4D37-BB51-4F720AD786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1295280"/>
            <a:ext cx="3504960" cy="68580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38560" y="1409760"/>
            <a:ext cx="2666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tch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81400" y="2895480"/>
            <a:ext cx="43797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Patches for fil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Patches for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Patch optim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5ECA-FA3A-41B0-82FE-9796726A20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 flipH="1">
            <a:off x="4335480" y="2882880"/>
            <a:ext cx="4038480" cy="1219320"/>
          </a:xfrm>
          <a:prstGeom prst="parallelogram">
            <a:avLst>
              <a:gd name="adj" fmla="val 14184"/>
            </a:avLst>
          </a:prstGeom>
          <a:solidFill>
            <a:srgbClr val="eef7f8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830160" y="2881800"/>
            <a:ext cx="3581640" cy="1219320"/>
          </a:xfrm>
          <a:custGeom>
            <a:avLst/>
            <a:gdLst>
              <a:gd name="textAreaLeft" fmla="*/ 386280 w 3581640"/>
              <a:gd name="textAreaRight" fmla="*/ 3195360 w 3581640"/>
              <a:gd name="textAreaTop" fmla="*/ 131400 h 1219320"/>
              <a:gd name="textAreaBottom" fmla="*/ 108792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57" y="21600"/>
                </a:lnTo>
                <a:lnTo>
                  <a:pt x="1043" y="21600"/>
                </a:lnTo>
                <a:close/>
              </a:path>
            </a:pathLst>
          </a:custGeom>
          <a:solidFill>
            <a:srgbClr val="f1f8f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972440" y="2611800"/>
            <a:ext cx="1524960" cy="1443960"/>
            <a:chOff x="1972440" y="2611800"/>
            <a:chExt cx="1524960" cy="1443960"/>
          </a:xfrm>
        </p:grpSpPr>
        <p:sp>
          <p:nvSpPr>
            <p:cNvPr id="96" name=""/>
            <p:cNvSpPr/>
            <p:nvPr/>
          </p:nvSpPr>
          <p:spPr>
            <a:xfrm rot="21381600">
              <a:off x="2011320" y="3139920"/>
              <a:ext cx="1447920" cy="38088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rot="21411600">
              <a:off x="2023200" y="3025800"/>
              <a:ext cx="1447920" cy="99072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21381600">
              <a:off x="2019240" y="3153240"/>
              <a:ext cx="1433520" cy="38088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21411600">
              <a:off x="1998360" y="2650680"/>
              <a:ext cx="1447560" cy="99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320" y="38160"/>
            <a:ext cx="8991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ch Mod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735280" y="3760560"/>
            <a:ext cx="0" cy="533160"/>
          </a:xfrm>
          <a:prstGeom prst="line">
            <a:avLst/>
          </a:prstGeom>
          <a:ln w="7632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17520" y="423216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o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20880" y="3187800"/>
            <a:ext cx="533520" cy="0"/>
          </a:xfrm>
          <a:prstGeom prst="line">
            <a:avLst/>
          </a:prstGeom>
          <a:ln w="7632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4920" y="29829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06880" y="2630520"/>
            <a:ext cx="0" cy="533520"/>
          </a:xfrm>
          <a:prstGeom prst="line">
            <a:avLst/>
          </a:prstGeom>
          <a:ln w="7632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6280" y="22860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135080" y="3720960"/>
            <a:ext cx="0" cy="533520"/>
          </a:xfrm>
          <a:prstGeom prst="line">
            <a:avLst/>
          </a:prstGeom>
          <a:ln w="7632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9560" y="419256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60680" y="2925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2506680" y="-7583760"/>
            <a:ext cx="1905120" cy="13030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2583000" y="-6897600"/>
            <a:ext cx="5790960" cy="1234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3961800">
            <a:off x="7525080" y="3283560"/>
            <a:ext cx="1774800" cy="5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830160" y="-7050240"/>
            <a:ext cx="1828800" cy="1249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7816680" y="2874600"/>
            <a:ext cx="533520" cy="12193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452400" y="3200400"/>
            <a:ext cx="1243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08680" y="3797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994880" y="3797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320" y="685800"/>
            <a:ext cx="73152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atch represen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23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disk data ch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23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y dependencies on other disk data chan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320" y="5029200"/>
            <a:ext cx="82296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nefi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23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parate write-before specification and enforc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23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icit write-before relationshi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4800600"/>
            <a:ext cx="8839440" cy="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647600" y="2624400"/>
            <a:ext cx="1524960" cy="1443960"/>
            <a:chOff x="4647600" y="2624400"/>
            <a:chExt cx="1524960" cy="1443960"/>
          </a:xfrm>
        </p:grpSpPr>
        <p:sp>
          <p:nvSpPr>
            <p:cNvPr id="122" name=""/>
            <p:cNvSpPr/>
            <p:nvPr/>
          </p:nvSpPr>
          <p:spPr>
            <a:xfrm rot="21381600">
              <a:off x="4686480" y="3152880"/>
              <a:ext cx="1447920" cy="380880"/>
            </a:xfrm>
            <a:prstGeom prst="rect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1411600">
              <a:off x="4698360" y="3038400"/>
              <a:ext cx="1447920" cy="990720"/>
            </a:xfrm>
            <a:prstGeom prst="ellipse">
              <a:avLst/>
            </a:prstGeom>
            <a:solidFill>
              <a:srgbClr val="a0d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1381600">
              <a:off x="4694400" y="3165840"/>
              <a:ext cx="1433520" cy="380880"/>
            </a:xfrm>
            <a:prstGeom prst="rect">
              <a:avLst/>
            </a:prstGeom>
            <a:solidFill>
              <a:srgbClr val="a0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21411600">
              <a:off x="4673520" y="2663280"/>
              <a:ext cx="1447560" cy="99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5227560" y="2925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4920" y="1947960"/>
            <a:ext cx="7633800" cy="36828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ch_cre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lock*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har*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atch*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88680" y="4191120"/>
            <a:ext cx="23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atherstitch Buffer 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6CED-1E9F-4523-BDCD-80CD68892B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320" y="38160"/>
            <a:ext cx="8991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e Consistency Mode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240" y="1066320"/>
            <a:ext cx="9068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urn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AF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cy in file system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implemented in Featherst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BD8A-C6CB-4424-BE29-EF8A516CBB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20:32:50Z</dcterms:created>
  <dc:creator>Christopher Frost, Mike Mammarella, Eddie Kohler, Andrew de los Reyes, Shant Hovsepian, Andrew Matsuoka, Lei Zhang</dc:creator>
  <dc:description>http://featherstitch.cs.ucla.edu/</dc:description>
  <dc:language>en-US</dc:language>
  <cp:lastModifiedBy>Christopher Frost</cp:lastModifiedBy>
  <dcterms:modified xsi:type="dcterms:W3CDTF">2007-10-17T18:06:22Z</dcterms:modified>
  <cp:revision>1455</cp:revision>
  <dc:subject/>
  <dc:title>Generalized File System Dependencies</dc:title>
</cp:coreProperties>
</file>